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43F-133B-42DB-B785-6339F078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CA9-B8B1-4C31-A6E4-5112C8D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E62-A0AE-4F91-B5FC-85FF2A3F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6A2-F3BA-46CE-AEB9-B1EA4563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C6A-F480-4CC3-9AC7-B028491C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973-D4CC-46ED-8246-D66545F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6FC-9CBB-49B8-BDF1-D57F85E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E89-78C9-48B5-A923-4D5358A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398-2DA5-4364-B2E5-41A4B16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C38-AA9B-4ADA-91A2-B976A76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A1F-FA49-45C8-86B0-E8651592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15C-F238-4E82-B3EE-9B0FEA8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60D-EE21-40D1-8D60-5B8CFEBD4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47" name="Symbol zastępczy tekstu 2" descr=""/>
          <p:cNvPicPr/>
          <p:nvPr/>
        </p:nvPicPr>
        <p:blipFill>
          <a:blip r:embed="rId6"/>
          <a:stretch/>
        </p:blipFill>
        <p:spPr>
          <a:xfrm>
            <a:off x="3851280" y="5589720"/>
            <a:ext cx="1008000" cy="100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013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laski Ośrodek Doradztwa  Rolniczego  w Szepiet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84280"/>
            <a:ext cx="828036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DSIĘWZIĘCIA</a:t>
            </a:r>
            <a:br>
              <a:rPr sz="3200"/>
            </a:br>
            <a:br>
              <a:rPr sz="32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chowanie i ochrona tradycji oraz  dziedzictwa kulturowego i krajobrazu przez społeczności lokalne na obszara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ejskich na przykładzie Litwy  - rejon solecznicki i województwa podlaskiego – wyjazd studyjny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tyczącego zachowania i ochrony tradycji oraz dziedzictwa i krajobrazu kulturowego w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2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8"/>
          <p:cNvSpPr/>
          <p:nvPr/>
        </p:nvSpPr>
        <p:spPr>
          <a:xfrm>
            <a:off x="3564000" y="112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700280"/>
          <a:ext cx="8207280" cy="3543120"/>
        </p:xfrm>
        <a:graphic>
          <a:graphicData uri="http://schemas.openxmlformats.org/drawingml/2006/table">
            <a:tbl>
              <a:tblPr/>
              <a:tblGrid>
                <a:gridCol w="536400"/>
                <a:gridCol w="3335400"/>
                <a:gridCol w="836640"/>
                <a:gridCol w="42840"/>
                <a:gridCol w="816120"/>
                <a:gridCol w="917640"/>
                <a:gridCol w="1722240"/>
              </a:tblGrid>
              <a:tr h="46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najem sal na spotkania z ekspertami podczas wizyt w N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rwy kawowe /3 x 25 osób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8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łata ekspertó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czas warsztatów  i wyjazdów teren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up materiałów do realizacji warsztatów kulinar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 grid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 koszty bezpośred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54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ordynacja projek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146,0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3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8"/>
          <p:cNvSpPr/>
          <p:nvPr/>
        </p:nvSpPr>
        <p:spPr>
          <a:xfrm>
            <a:off x="3068640" y="170028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995640" y="44370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284292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945440"/>
            <a:ext cx="896472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Celem wyjazdu j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ynuowane bezpośrednich kontaktów liderów lokalnych społecz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twa podlaskiego i rejonu solecznickieg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radcze wsparcie i upowszechnianie  aktywnych postaw w lok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łecznościach wiejskich na Litwie i w Pols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ększenie aktywności i świadomości mieszkańców obszarów wiejs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twa podlaskiego w Polsce i rejonu solecznickiego  na Litwie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ie  zachowania i ochrony  tradycji,  dziedzictwa kulturowego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jobraz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znanie się z formami i metodami działania instytucji wspierają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społecznośc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2843280" y="1341360"/>
            <a:ext cx="32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819800"/>
            <a:ext cx="89647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Realizacja projektu zakłada osiągnięcie następujących rezultatów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4 przedstawicieli społeczności lokalnych (liderów wiejskich) i instytu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ierających z woj. Podlaskiego, oraz 15 z Litwy zapozna się z przykła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ultywowania tradycji, ochrony krajobrazu  i dziedzictwa kulturowego w rejo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lecznickim na Litwie, oraz województwie podlas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stnicy wyjazdu studyjnego wraz z odpowiednikami ze strony litewski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zmą udział we wspólnych zajęciach merytorycznych prowadzonych prz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tów z Polski i Lit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stnicy zwiększą swoją aktywność i świadomość w zakresie zach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ochrony  tradycji,  dziedzictwa kulturowego oraz krajobr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stnicy zostaną zmotywowani do udziału w innych wspó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dsięwzięciach, a zdobytą wiedzy i doświadczenie w będą  stosować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kty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699920" y="1628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31480"/>
            <a:ext cx="871380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ólna liczba uczestników -  41 osób w ty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jazd na Litw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4 przedstawicieli liderów społeczności lokalnych (sołtysów, człon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ów stowarzyszeń), instytucji doradczych i samorzą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ierających rozwój lokalnych społeczn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so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ierowca, osoba odpowiedzialna za nadzór merytoryczny i  or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realizacji  zadań merytorycznych przewidywany jest udział 15 przedstawicieli społeczności lokalnych z Litw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wizyta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5 przedstawicieli środowisk lokalnych z rejonu solecznicki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realizacji  zadań merytorycznych przewidywany jest udział 10 przedstawicieli społeczności lokalnych z Polski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68524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810800"/>
            <a:ext cx="87138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formacja o planowanej wizycie studyjnej zostanie zamieszczona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ronach internetowych Sek. Reg. KSOW i PODR.  Organizator wystos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ównież zaproszenia do funkcjonujących stowarzyszeń i współpracują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derów  wiejskich oraz samorządów którzy jak wynika z bieżącej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ółpracy przejawiają zainteresowanie  pielęgnowaniem trady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hroną dziedzictwa kulturowego i przyrodnicz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yscy chętni wypełnić będą musieli kartę zgłoszeniową opracowa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udostępnioną przez organizatora. Ostateczny skład ustali organiz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sadą będzie utrzymanie proporcjonalności wśród uczestników, tak 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yjeździe uczestniczyli przedstawiciele różnych aktywnych środow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ych i instytucji szczególnie zaangażowanych w ich wspieranie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dstawicieli strony litewskiej dobierze Samorząd Rejonu Soleczn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1619280" y="1484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934640"/>
            <a:ext cx="856908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izacja przedsięwzięcia oparta jest na współdziałaniu z Samorządem Rejonu Soleczniki na Litwie, z którym zostanie dopracowany harmonogram szczegółow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łożenia obejmu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znanie się z przykładami kultywowania w społecznościach lokal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dycji i środowiska naturalnego na obszarach wiejskich w rejo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lecznickim na Litwie oraz przedstawienie uczestnikom z Litwy wzorc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kładów z województwa podlas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ólne spotkania, warsztaty kulinarne,  wysłuchanie prelekcji dot. zachowania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hrony  tradycji oraz  dziedzictwa kulturowego i krajobrazu w społecznośc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ych stan aktualny i potrzeby w warunkach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laskiego i rejonu solecznic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zyty w organizacjach pozarządowych na Litwie i w Polsce, zapoznanie się z 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siągnięciami i problemami,  wzajemne dyskus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7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8"/>
          <p:cNvSpPr/>
          <p:nvPr/>
        </p:nvSpPr>
        <p:spPr>
          <a:xfrm>
            <a:off x="68436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02680"/>
            <a:ext cx="85690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oznanie się z przykładami ochrony dziedzictwa kulturowego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jobrazu realizowanego przez społeczności lok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as trwania wyjazdów studyjnych  – 2 x 3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zestnikom wyjazdu na Litwę zostanie zapewniony transport / wynajęty autokar/, noclegi i posiłki.  Na czas podróży wszyscy zostaną ubezpieczeni. W części seminaryjnej uczestniczyć będą również przedstawiciele lokalnych społeczności z Litwy (15 osó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cji litewskiej zostaną zapewnione noclegi i posiłki. W tej części seminaryjnej weźmie udział 10 przedstawicieli środowisk lokalnych z Po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zestnikom zostaną przygotowane i wręczone specjalnie przygotowane materiały szkoleniowe dotyczące omawianych proble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s i podsumowanie wyjazdu zostanie opublikowane na stronie internetowej POD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4409280" y="112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700280"/>
          <a:ext cx="8207280" cy="4243320"/>
        </p:xfrm>
        <a:graphic>
          <a:graphicData uri="http://schemas.openxmlformats.org/drawingml/2006/table">
            <a:tbl>
              <a:tblPr/>
              <a:tblGrid>
                <a:gridCol w="536400"/>
                <a:gridCol w="3335400"/>
                <a:gridCol w="836640"/>
                <a:gridCol w="858960"/>
                <a:gridCol w="917640"/>
                <a:gridCol w="1722240"/>
              </a:tblGrid>
              <a:tr h="464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wyjazdu na Litw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20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autokar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m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9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zpieczenie uczestników wyjaz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żywienie uczestników /26 osób x 3 dni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zakwaterowania /2 doby x 26 osób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y zajęć merytoryczny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Lit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04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ynagrodzenie  wykładowc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racowanie  mat szkoleniowych -  dzieł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druk mat szkoleniowy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3564000" y="112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700280"/>
          <a:ext cx="8207280" cy="4351320"/>
        </p:xfrm>
        <a:graphic>
          <a:graphicData uri="http://schemas.openxmlformats.org/drawingml/2006/table">
            <a:tbl>
              <a:tblPr/>
              <a:tblGrid>
                <a:gridCol w="536400"/>
                <a:gridCol w="3335400"/>
                <a:gridCol w="836640"/>
                <a:gridCol w="42840"/>
                <a:gridCol w="816120"/>
                <a:gridCol w="917640"/>
                <a:gridCol w="1722240"/>
              </a:tblGrid>
              <a:tr h="46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najem sal na spotkania z ekspertami podczas wizyt w samorządach, stowarzyszeni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rwy kawowe /4 x 40 osób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łata ekspertó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ewsk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up materiałów do realizacji warsztatów kulinar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up materiałów (teczka, długopis, wydawnictwo, itp.)  + dokumentacj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pobytu strony litewskiej w Pols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3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noclegów (15 osób x 2 no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wyżywienia (15 osób x 3 dn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grodzenie wykładow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r.zochowski</cp:lastModifiedBy>
  <dcterms:modified xsi:type="dcterms:W3CDTF">2012-06-06T10:56:39Z</dcterms:modified>
  <cp:revision>82</cp:revision>
  <dc:subject/>
  <dc:title>Prezentacja wyjazd studyjnego do  ………………………….</dc:title>
</cp:coreProperties>
</file>