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7A2B-17FE-40B7-9561-50A02976DF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E76D-C5AD-47A0-8EA2-8B067F0672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ymbol zastępczy nagłówk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FD3-B930-4ED5-8FCA-70350ABD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720-EB4F-4B4F-86DC-DD8303A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0E1-A6F1-431D-A614-52686D70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078-0C9E-4D75-9EEC-D06A069F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3D6-66FA-4EB0-874B-A4E9F068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541-8ED4-42E9-9E5D-5402FCD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CC6-BFB1-4B0C-9E06-6680D3F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31D-E9FE-4751-9B0A-87B0233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F53-E95B-4CE1-99F7-CDF2126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A7B-2506-4289-B0AE-1A008D3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EFA-6464-4637-92E8-23438E7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05A-2EE7-45BE-886E-E09BB89D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8ED-7A7C-4F39-820A-354178A9DBAD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2F73-529C-42B3-8959-3A02423E44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ostosowanie usług turystycznych do wymagań turystów zagranicznych na przykładzie dobrych praktyk francuski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6000" y="544464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wiat Białosto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7"/>
          <a:srcRect l="79845" t="40157" r="7763" b="44002"/>
          <a:stretch/>
        </p:blipFill>
        <p:spPr>
          <a:xfrm>
            <a:off x="3635280" y="4941720"/>
            <a:ext cx="135756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arostwo Powiatowe w Białymstoku od kilku lat współpracuje z regionem Burgundii we Francji w zakresie przenoszenia dobrych praktyk w rozwój działalności turystycznej na terenie powiatu białostockiego. W efekcie tej współpracy zorganizowany został   Powiatowy Ośrodek Sportu i Turystyki „Bukowisko” w Supraślu, który w swojej działalności prowadzi szereg działań z zakresu rekreacji i aktywnej turystyki konnej, pieszej, rowerowej i kajakowej. Dysponuje miejscami noclegowymi i oferuje usługi gastronomiczne. Do dyspozycji gości jest hala sportowa z nowoczesnym wyposażeniem sportowym i krytą ujeżdżalnią koni, gdzie prowadzone są przez wykwalifikowaną kadrę zajęcia z nauki jazdy końmi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yjazd grupy polskiej do Francji pozwoli na poznanie dobrych praktyk francuskich w działalności turystycznej i agroturystycznej, ze szczególnym uwzględnieniem problematyki dotyczącej pobytu w gospodarstwach osób niepełnosprawnych oraz dopasowanie naszych gospodarstw do wymagań turystów zagranicznych Doświadczenia francuskie będą pomocne do zastosowania wymagań w tym zakresie w naszych gospodarstwach oferujących usługi turystyczne. Pobyt grupy francuskiej na terenie powiatu białostockiego pozwoli na skonfrontowanie na miejscu szeregu wymagań, jakie należy wykonać w konkretnym gospodarstwie , aby sprostać wymaganiom turysty zagraniczneg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bukowisko.com.pl/images/stories/i1.jpg"/>
          <p:cNvPicPr/>
          <p:nvPr/>
        </p:nvPicPr>
        <p:blipFill>
          <a:blip r:embed="rId7"/>
          <a:stretch/>
        </p:blipFill>
        <p:spPr>
          <a:xfrm>
            <a:off x="826920" y="1557360"/>
            <a:ext cx="7564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6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pokaz\Desktop\P6051407.jpg"/>
          <p:cNvPicPr/>
          <p:nvPr/>
        </p:nvPicPr>
        <p:blipFill>
          <a:blip r:embed="rId7"/>
          <a:stretch/>
        </p:blipFill>
        <p:spPr>
          <a:xfrm>
            <a:off x="2627280" y="1341360"/>
            <a:ext cx="37004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7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www.bukowisko.com.pl/images/stories/altana2.jpg"/>
          <p:cNvPicPr/>
          <p:nvPr/>
        </p:nvPicPr>
        <p:blipFill>
          <a:blip r:embed="rId7"/>
          <a:stretch/>
        </p:blipFill>
        <p:spPr>
          <a:xfrm>
            <a:off x="1187280" y="1413000"/>
            <a:ext cx="6842160" cy="51289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8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0" descr="5"/>
          <p:cNvPicPr/>
          <p:nvPr/>
        </p:nvPicPr>
        <p:blipFill>
          <a:blip r:embed="rId7"/>
          <a:stretch/>
        </p:blipFill>
        <p:spPr>
          <a:xfrm>
            <a:off x="1403280" y="1628640"/>
            <a:ext cx="62136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8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100_8656"/>
          <p:cNvPicPr/>
          <p:nvPr/>
        </p:nvPicPr>
        <p:blipFill>
          <a:blip r:embed="rId7"/>
          <a:stretch/>
        </p:blipFill>
        <p:spPr>
          <a:xfrm>
            <a:off x="1403280" y="1557360"/>
            <a:ext cx="6337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9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r_pl0805e001_01"/>
          <p:cNvPicPr/>
          <p:nvPr/>
        </p:nvPicPr>
        <p:blipFill>
          <a:blip r:embed="rId7"/>
          <a:stretch/>
        </p:blipFill>
        <p:spPr>
          <a:xfrm>
            <a:off x="3059280" y="4221000"/>
            <a:ext cx="2817720" cy="1960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140_xiii_rowerzyci"/>
          <p:cNvPicPr/>
          <p:nvPr/>
        </p:nvPicPr>
        <p:blipFill>
          <a:blip r:embed="rId8"/>
          <a:stretch/>
        </p:blipFill>
        <p:spPr>
          <a:xfrm>
            <a:off x="755640" y="1654200"/>
            <a:ext cx="3313080" cy="20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03265x"/>
          <p:cNvPicPr/>
          <p:nvPr/>
        </p:nvPicPr>
        <p:blipFill>
          <a:blip r:embed="rId9"/>
          <a:stretch/>
        </p:blipFill>
        <p:spPr>
          <a:xfrm>
            <a:off x="5364000" y="1655640"/>
            <a:ext cx="2808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20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kajaki3"/>
          <p:cNvPicPr/>
          <p:nvPr/>
        </p:nvPicPr>
        <p:blipFill>
          <a:blip r:embed="rId7"/>
          <a:stretch/>
        </p:blipFill>
        <p:spPr>
          <a:xfrm>
            <a:off x="5219640" y="4040280"/>
            <a:ext cx="3317760" cy="2344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Kajakigg"/>
          <p:cNvPicPr/>
          <p:nvPr/>
        </p:nvPicPr>
        <p:blipFill>
          <a:blip r:embed="rId8"/>
          <a:stretch/>
        </p:blipFill>
        <p:spPr>
          <a:xfrm>
            <a:off x="611280" y="4149720"/>
            <a:ext cx="3432240" cy="2246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kajaki14"/>
          <p:cNvPicPr/>
          <p:nvPr/>
        </p:nvPicPr>
        <p:blipFill>
          <a:blip r:embed="rId9"/>
          <a:stretch/>
        </p:blipFill>
        <p:spPr>
          <a:xfrm>
            <a:off x="5219640" y="1413000"/>
            <a:ext cx="3308400" cy="2476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img_0116"/>
          <p:cNvPicPr/>
          <p:nvPr/>
        </p:nvPicPr>
        <p:blipFill>
          <a:blip r:embed="rId10"/>
          <a:stretch/>
        </p:blipFill>
        <p:spPr>
          <a:xfrm>
            <a:off x="577800" y="1441440"/>
            <a:ext cx="3457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22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S:\!!!Wrzuta_nie_wrzucac_danych_osobowych\Zdjęcie_tablicy_informacyjnej_RPOWP.jpg"/>
          <p:cNvPicPr/>
          <p:nvPr/>
        </p:nvPicPr>
        <p:blipFill>
          <a:blip r:embed="rId7"/>
          <a:stretch/>
        </p:blipFill>
        <p:spPr>
          <a:xfrm>
            <a:off x="1187280" y="141300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l główny: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Opracowanie założeń do programu rozwoju turystyki w tym: agroturystyki w powiecie białostockim w dostosowaniu do wymagań turystów niepełnosprawnych z zagranicy.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ele pośrednie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Poznanie standardów obowiązujących w zakresie funkcjonowania gospodarstw agroturystycznych na terenie Francji z uwzględnieniem dostosowania ich do wymogów i potrzeb osób niepełnosprawny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Poznanie metod i sposobów uzyskiwania efektywnych dochodów przez gospodarstwa agroturystyczne w warunkach francuskich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Poznanie dobrych praktyk promocji i reklamy gospodarstw agroturystycznych na przykładzie wzorów francuskic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zyta studyjna 6 dniowa delegacji polskiej w terminie III kwartał 2012 w ilości 8 osób w okręgu Burgundii we Francji. W składzie delegacji: - 3 osoby przedstawiciele Starostwa Powiatowego w Białymstoku, 2 osoby - przedstawiciele gospodarstw agroturystycznych i stowarzyszenia agroturystycznego, 1 osoba – przedstawiciel uczelni białostockiej – kierunek turystyki, 1 osoba filmująca przebieg wizyty, 1 osoba - tłumacz języka francuskiego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zyta studyjna 5 dniowa delegacji francuskiej w terminie I kwartał 2013 w ilości 4 osób na terenie powiatu białostockieg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0"/>
          <p:cNvSpPr/>
          <p:nvPr/>
        </p:nvSpPr>
        <p:spPr>
          <a:xfrm>
            <a:off x="3203640" y="1484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POSÓB REALIZ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1714680"/>
            <a:ext cx="803268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Zapoznanie się z działalnością gospodarstw agroturystycznych w warunkach francuskich i warunkach polskich.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Zapoznanie się z prawodawstwem Unii Europejskiej w zakresie prowadzenia działalności turystycznej.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Zapoznanie się z systemem kształcenia w szkołach średnich i wyższych w zakresie wykwalifikowanych specjalistów obsługi turystyki aktywnej w tym konnej.</a:t>
            </a:r>
            <a:br>
              <a:rPr sz="48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apoznanie się z zasadami funkcjonowania samorządu terenowego i organizacji pozarządowych pomocnych w rozwiązywaniu problematyki turystycz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groturystycznej.</a:t>
            </a:r>
            <a:br>
              <a:rPr sz="48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oznanie metod i sposobów dostosowania działalności agroturystycznej do potrzeb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ymogów turystów niepełnosprawnych w okręgu Burgundii, celem wdrożenia i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warunkach powiatu białostockiego.</a:t>
            </a:r>
            <a:br>
              <a:rPr sz="48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oznanie sposobów wykorzystania w działalności agroturystycznej zasobów dziedzictwa kulturowego i architektonicznego, celem zwiększenia ich atrakcyjności.</a:t>
            </a:r>
            <a:br>
              <a:rPr sz="48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Zapoznanie się z metodami promocji i reklamy gospodarstw agroturystycz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renie Burgundii, celem zastosowania w warunkach powiatu białostockiego.</a:t>
            </a:r>
            <a:br>
              <a:rPr sz="4800"/>
            </a:b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oznanie możliwości w prowadzeniu hipoterapii przez gospodarstwa agroturystyczne. </a:t>
            </a:r>
            <a:br>
              <a:rPr sz="48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jentami projektu będą uczestnicy dwóch grup wyjazdowych (grupa polska - 8 – osobo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rupa francuska – 4 - osobo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 W grupie polskiej zostaną wydelegowane 3 oso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 Starostwa Powiatowego w Białymstoku merytorycznie odpowiedzialne za zagadnienia związane z turystyk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agroturystyką, 2 osoby właściciele gospodarstw agroturystycznych, w tym: 1 osoba reprezentująca stowarzyszenie agroturystyczne, 1 osoba – pracownik naukowy uczelni białostockiej – kierunek turystyka, 1 osoba - tłumacz języka francuskiego, 1 osoba – przedstawiciel telewizji lokalnej lub inna osoba filmująca przebieg wizyty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W grupie francuskiej decyzja o składzie delegacji podjęta zostanie przez stronę francus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ole tekstowe 8"/>
          <p:cNvSpPr/>
          <p:nvPr/>
        </p:nvSpPr>
        <p:spPr>
          <a:xfrm>
            <a:off x="1713960" y="155736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Wyjazd grupy polskiej do regionu Burgundi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e Francji celem zapoznania się z działalnością turystyczną funkcjonującą na tym terenie.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Rewizyta delegacji francuskiej na terenie powiatu białostockieg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8"/>
          <p:cNvSpPr/>
          <p:nvPr/>
        </p:nvSpPr>
        <p:spPr>
          <a:xfrm>
            <a:off x="4069080" y="981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844640"/>
          <a:ext cx="8280360" cy="2981520"/>
        </p:xfrm>
        <a:graphic>
          <a:graphicData uri="http://schemas.openxmlformats.org/drawingml/2006/table">
            <a:tbl>
              <a:tblPr/>
              <a:tblGrid>
                <a:gridCol w="541440"/>
                <a:gridCol w="3365640"/>
                <a:gridCol w="842760"/>
                <a:gridCol w="866880"/>
                <a:gridCol w="925560"/>
                <a:gridCol w="1738080"/>
              </a:tblGrid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(zł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transportu Delegacji polskiej do Fran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lot samolotem delegacji polskiej na trasie Warszawa - Dijon (tam i powró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jazdy grupy osób na trasie Białystok-Warszawa/Warszawa-Białystok - 2 przejazdy po 400 km (tam/powró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jazdy grupy osób na trasie Dijon-Domaine de la Loge/Domaine de la Loge - Dijon - 2 przejazdy po 250 km (tam/powró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jazdy lokalne delegacji polskiej </a:t>
                      </a:r>
                      <a:br>
                        <a:rPr sz="1000"/>
                      </a:b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o ok.100 km x 4 dn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ezpieczenie uczestników deleg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4069080" y="981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5280" y="1484280"/>
          <a:ext cx="8424720" cy="5040360"/>
        </p:xfrm>
        <a:graphic>
          <a:graphicData uri="http://schemas.openxmlformats.org/drawingml/2006/table">
            <a:tbl>
              <a:tblPr/>
              <a:tblGrid>
                <a:gridCol w="550800"/>
                <a:gridCol w="3424320"/>
                <a:gridCol w="857160"/>
                <a:gridCol w="882720"/>
                <a:gridCol w="941400"/>
                <a:gridCol w="1768320"/>
              </a:tblGrid>
              <a:tr h="617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w ramach operac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nostka mi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wka jednostkowa brutto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rtość kosztu kwalifikowalnego (zł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transportu Delegacji francuskiej do Pol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lot samolotem delegacji francuskiej na trasie Dijon - Warszawa (tam i powró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5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jazdy grupy osób na trasie Warszawa-Supraśl/Supraśl-Warszawa - 2 przejazdy po 440 km (tam/powró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2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zejazdy lokalne delegacji francuskiej </a:t>
                      </a:r>
                      <a:br>
                        <a:rPr sz="1000"/>
                      </a:b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o ok.80 km x 3 dn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pobytu Delegacji polsk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0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żywienie (6 dni x 8 osó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odzie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cleg (5 noclegów x 8 osó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odzie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 tłumacz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szty pobytu Delegacji francusk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32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yżywienie (5 dni x 4 osob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odzie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cleg (4 noclegi x 4 osob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obodzie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 tłumacz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łu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8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1" name="Tytuł 1"/>
          <p:cNvSpPr/>
          <p:nvPr/>
        </p:nvSpPr>
        <p:spPr>
          <a:xfrm>
            <a:off x="25092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83528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Object 2"/>
          <p:cNvGraphicFramePr/>
          <p:nvPr/>
        </p:nvGraphicFramePr>
        <p:xfrm>
          <a:off x="428472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08472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6"/>
          <a:srcRect l="79845" t="37001" r="7030" b="44002"/>
          <a:stretch/>
        </p:blipFill>
        <p:spPr>
          <a:xfrm>
            <a:off x="7812000" y="260280"/>
            <a:ext cx="800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ewelina.glusiecka</cp:lastModifiedBy>
  <dcterms:modified xsi:type="dcterms:W3CDTF">2012-06-06T06:14:31Z</dcterms:modified>
  <cp:revision>56</cp:revision>
  <dc:subject/>
  <dc:title>Prezentacja wyjazd studyjnego do  ………………………….</dc:title>
</cp:coreProperties>
</file>