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03B-3102-491B-B3B1-90BBE88D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002-FEAF-4AB8-8027-E12AE47C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58B-F24C-437C-80E1-99C68BCF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B33-9DDA-44EB-9DDD-1482D12F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F15-0AD7-4E39-B85E-2A54B0EA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5E4-7478-401E-91AC-E749033B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61E-0DDD-46C0-B844-250E5F69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325-3762-4CAE-B75F-97ECAF51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2E6-925B-4284-9B5A-84D1C460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FE1-1F4C-413C-9E25-59B09CA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A08-8A96-4237-B56A-F3BA7A5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E1E-50CF-4D98-899A-C4F81915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0F83-7755-4C5A-A834-716AE226B0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ezentacj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DSIĘWZIĘCIA </a:t>
            </a:r>
            <a:br>
              <a:rPr sz="2000"/>
            </a:br>
            <a:br>
              <a:rPr sz="2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YJAZD STUDYJN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ANZA ROLNO-SPOZYWCZA/SPIRYTUSOW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44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pic>
        <p:nvPicPr>
          <p:cNvPr id="48" name="Obraz 8" descr="logo_FIR_nowe.jpg"/>
          <p:cNvPicPr/>
          <p:nvPr/>
        </p:nvPicPr>
        <p:blipFill>
          <a:blip r:embed="rId6"/>
          <a:stretch/>
        </p:blipFill>
        <p:spPr>
          <a:xfrm>
            <a:off x="2987640" y="4941720"/>
            <a:ext cx="30481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. organizacja współpracy międzyterytorialnej i międzynarodowej w zakresie przedsiębiorczości na obszarach wiejskich oraz wspólnych form działalności gospodarcz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współpraca bilateralna pomiędzy sieciam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ska-Fran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Podtrzymanie kontaktu z władzami i organizacjami o znaczeniu międzynarodowym, zaangażowanymi w rozwój obszarów wiejskich oraz wykazującymi szczególne zainteresowanie działaniami Krajowej Sieci Obszarów Wiejski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4. ułatwienie wymiany doświadczeń oraz dobrych praktyk  w ramach sieci tematycz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8"/>
          <p:cNvSpPr/>
          <p:nvPr/>
        </p:nvSpPr>
        <p:spPr>
          <a:xfrm>
            <a:off x="3074040" y="134136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L ORGANIZACJI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. Poznanie metod rozwoju lokalnego (Leader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Wzrost wiedzy na temat unijnej polityki rozwoju obszarów wiejskich  (NRDE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Ułatwienie współpracy nad projektami międzynarodowymi (LG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65" name="pole tekstowe 8"/>
          <p:cNvSpPr/>
          <p:nvPr/>
        </p:nvSpPr>
        <p:spPr>
          <a:xfrm>
            <a:off x="3034080" y="134136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ZEKIWANE REZULTA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. Branża rolno-spożywcz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cukiernictwo/mleczarstwo/serowarstwo) -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rupa 7 os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Branża spirytusowa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 koniaku, pineau i win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rupa 7 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0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8"/>
          <p:cNvSpPr/>
          <p:nvPr/>
        </p:nvSpPr>
        <p:spPr>
          <a:xfrm>
            <a:off x="1906920" y="148428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IS ORAZ LICZEBNOŚĆ GRUPY DOCELOWEJ (BENEFICJEN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. Branżowa lista KSOW ze wskazaniem osób priorytetowych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(dostosowanie kandydata do warunków i terminów wyjazdu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9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2344680" y="1341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PONOWANY SPOSÓB REKRUTAC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. Transfer Białystok – Poitou Charentes (samolot/bus)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Wizyty studyjne: 4 – 6 branżowych podmiotó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ospodarczych/edukacyjnych/samorządowych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Bilateralne spotkania branżowe 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88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92" name="pole tekstowe 8"/>
          <p:cNvSpPr/>
          <p:nvPr/>
        </p:nvSpPr>
        <p:spPr>
          <a:xfrm>
            <a:off x="2432880" y="126828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96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8"/>
          <p:cNvSpPr/>
          <p:nvPr/>
        </p:nvSpPr>
        <p:spPr>
          <a:xfrm>
            <a:off x="2413080" y="1268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628640"/>
          <a:ext cx="8209080" cy="3295800"/>
        </p:xfrm>
        <a:graphic>
          <a:graphicData uri="http://schemas.openxmlformats.org/drawingml/2006/table">
            <a:tbl>
              <a:tblPr/>
              <a:tblGrid>
                <a:gridCol w="538200"/>
                <a:gridCol w="3333600"/>
                <a:gridCol w="836640"/>
                <a:gridCol w="860400"/>
                <a:gridCol w="917640"/>
                <a:gridCol w="1722600"/>
              </a:tblGrid>
              <a:tr h="871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y w ramach oper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nostka mia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ość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wka jednostkowa brutto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tość kosztu kwalifikowalnego  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ł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wyjazdu studyjnego dla 7 os.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4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 (przelot/bu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waterowanie/wyzywieni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zial w spotkaniach bilateralnych (najem sal/catering/materialy informacyjn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umaczen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zt organizacji  technicznej </a:t>
                      </a: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ora/partnerów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 gridSpan="5"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000.00 Pl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. Organizacje współpracujące  (branża spirytusowa):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 Izba Przemysłowo-Handlowa w Poitou-Charenetes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 CRCI Poitou-Charentes (koniak i pineau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- CRCI Aquitaine ( wino)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Organizacje współpracujące  (branża rol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spozywcz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z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lnicz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Vienn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Regionalny Instytut Jakosci zywienia  (IRQA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06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8"/>
          <p:cNvSpPr/>
          <p:nvPr/>
        </p:nvSpPr>
        <p:spPr>
          <a:xfrm>
            <a:off x="3064680" y="1341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ne istotn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17:42Z</dcterms:created>
  <dc:creator>marcin.muszyc</dc:creator>
  <dc:description/>
  <dc:language>en-US</dc:language>
  <cp:lastModifiedBy>marcin.muszyc</cp:lastModifiedBy>
  <dcterms:modified xsi:type="dcterms:W3CDTF">2012-06-06T06:41:57Z</dcterms:modified>
  <cp:revision>54</cp:revision>
  <dc:subject/>
  <dc:title>Prezentacja wyjazd studyjnego do  ………………………….</dc:title>
</cp:coreProperties>
</file>