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91F-90C7-4D9E-9E7C-535E546C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9B2-6CE6-4502-A199-210B2C57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A77-9007-40E9-ABF5-08544ED0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7A76-0FB7-4856-8F7C-DE2AC195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90A-6B9E-46E4-AB27-AF764BB4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621-B548-491D-843D-4CD07A43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2F82-7FD0-4DD1-927F-761BF657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5C1-A2C0-4734-9356-461875AE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C4D8-28F5-4493-963B-2C124F04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2B0-E175-4072-B485-CE640523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0FBB-362C-4C90-9F18-F2684BE0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AE5D-2CA5-449C-9461-208ACE4E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3D0D-7C59-405F-A248-A43028E5AE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zentacja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DSIĘWZIĘCIA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achowanie dziedzictwa kulturowego i historycznego na terenach wiejskich na przykładzie LGD Söderslätt ze Szwecj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898989"/>
                </a:solidFill>
                <a:latin typeface="Calibri"/>
              </a:rPr>
              <a:t>Fundacja Biebrzańsk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45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99736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1. Pokazanie sposobów na wykorzystywanie potencjału kulturowego i historycznego dla rozwoju lokalnego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2. Poznanie przykładów działań na zachowanie dziedzictwa kulturowego i historycznego w Szwecji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3. Nawiązanie kontaktów w celu podjęcia współpracy   przez LGD oraz lokalne samorząd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52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8"/>
          <p:cNvSpPr/>
          <p:nvPr/>
        </p:nvSpPr>
        <p:spPr>
          <a:xfrm>
            <a:off x="3074040" y="134136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EL ORGANIZACJI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3644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1. Wzrost wiedzy na temat wykorzystywania dziedzictwa narodowego jako potencjału rozwoju lokalnego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2. Poznanie ‚dobrych praktyk’ zarządzania turystyką  przez lokalne organizacje i samorządy.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3. Podpisane deklaracje współpracy z LGD i JST z terenu województwa podlaskiego.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Podjęcie inicjatyw oraz inwestycji wykorzystujących lokalne dziedzictwo narodowe i kulturowe.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65" name="pole tekstowe 8"/>
          <p:cNvSpPr/>
          <p:nvPr/>
        </p:nvSpPr>
        <p:spPr>
          <a:xfrm>
            <a:off x="3034080" y="134136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CZEKIWANE REZULTA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21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200"/>
            </a:b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o wyjazdu studyjnego chcemy zaprosić przedstawicieli LGD, Przedstawiciela Białostockiego Muzeum Wsi oraz samorządców z terenu województwa Podlaskiego, którzy podejmują działania dotyczące zachowania dziedzictwa lokalnego- w formie wiosek tematycznych, ekomuzeów, warsztatów. Razem 25 osób.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Strona merytoryczna wyjazdu studyjnego zostanie wsparta  LGD Söderslätt ze Szwecji " oraz Stowarzyszenie Cross Baltica. 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70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74" name="pole tekstowe 8"/>
          <p:cNvSpPr/>
          <p:nvPr/>
        </p:nvSpPr>
        <p:spPr>
          <a:xfrm>
            <a:off x="1906920" y="1484280"/>
            <a:ext cx="62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PIS ORAZ LICZEBNOŚĆ GRUPY DOCELOWEJ (BENEFICJENTÓ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uzgodnieniu z SR KSOW zapraszamy LGD oraz instytucje i samorządy podejmujące tematykę ochrony dziedzictwa kulturowego i historycznego na swoim obszarze. Rekrutacja na podstawie przesłanych anki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79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83" name="pole tekstowe 8"/>
          <p:cNvSpPr/>
          <p:nvPr/>
        </p:nvSpPr>
        <p:spPr>
          <a:xfrm>
            <a:off x="2344680" y="13413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PONOWANY SPOSÓB REKRUTAC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04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rogram wizyty płd. Szwecja, wrzesień 2012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21.00  Wypłynięcie promem Stena Line z Gdyni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zień 1</a:t>
            </a: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ejazd do Anderslöv, spotkanie z Leader Söderslätt</a:t>
            </a: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oponowane miejsca-tematy: Osada Wikingów w Foteviken, stare porty rybackie, tradycyjna żywność – spotkania z przedsiębiorcami, tradycyjne metody budowy łodzi,  przejazd szlakiem zamków i pałaców Soderslatt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roczysta kolacja z reprezentantami lokalnej LGD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88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92" name="pole tekstowe 8"/>
          <p:cNvSpPr/>
          <p:nvPr/>
        </p:nvSpPr>
        <p:spPr>
          <a:xfrm>
            <a:off x="2432880" y="126828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JWAŻNIEJSZE PUNKTY PROGRAMU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zień 2 Lokalna przedsiębiorczość i turystyka </a:t>
            </a: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izyty studyjne u lokalnych firm turystycznych </a:t>
            </a: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Warsztaty tematyczne z LGD Leader Soderslatt – ochrona dziedzictwa lokalnego a turystyk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Kolacja w lokalnej wędzarni ryb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zień 3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8.00-9.00 Śniadanie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Wizyta w Urzędzie Gminy – spotkanie z lokalnymi samorządowcami. Działania samorządu w zakresie ochrony dziedzictwa i rozwoju turystyk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Przejazd na prom do Karlskron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om  do Gdyni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97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01" name="pole tekstowe 8"/>
          <p:cNvSpPr/>
          <p:nvPr/>
        </p:nvSpPr>
        <p:spPr>
          <a:xfrm>
            <a:off x="2432880" y="126828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JWAŻNIEJSZE PUNKTY PROGRAMU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05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09" name="pole tekstowe 8"/>
          <p:cNvSpPr/>
          <p:nvPr/>
        </p:nvSpPr>
        <p:spPr>
          <a:xfrm>
            <a:off x="2413080" y="1268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udż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989000"/>
          <a:ext cx="8056440" cy="4488120"/>
        </p:xfrm>
        <a:graphic>
          <a:graphicData uri="http://schemas.openxmlformats.org/drawingml/2006/table">
            <a:tbl>
              <a:tblPr/>
              <a:tblGrid>
                <a:gridCol w="515880"/>
                <a:gridCol w="3292560"/>
                <a:gridCol w="868320"/>
                <a:gridCol w="892080"/>
                <a:gridCol w="951120"/>
                <a:gridCol w="1536480"/>
              </a:tblGrid>
              <a:tr h="230400">
                <a:tc gridSpan="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zczegółowy kosztorys realizacji operacji w rozbiciu na poszczególne koszty dział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8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p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szty w ramach działań</a:t>
                      </a:r>
                      <a:br>
                        <a:rPr sz="900"/>
                      </a:b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"Zachowanie dziedzictwa kulturowego i narodowego na terenach wiejskich na przykładzie LGD Söderslätt ze Szwecji "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Jednostka mia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loś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tawka jednostkowa brut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artość kosztu kwalifikowalnego   </a:t>
                      </a: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zł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7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1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rganizacja wyjazdu studyjneg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6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yżywienie dla 15 osób przez 3 d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6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łodniowe- obiad, kolacj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obodzień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8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apewnienie wykładowcó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6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płacenie wykładowcy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odz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8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zejazdy i przeloty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6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zejazdy autokarem w Polsc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8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zejazdy autokarem w Szwecj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6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.4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z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7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8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ynagrodzenie tłumac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mowa o dzieło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6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ynagrodzenie koordynatora wyjaz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mowa o dzieło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8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cleg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cleg w gospodarstwie agroturystycznym dla 25 osób po 2 nocleg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obodzień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8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AZE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5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7:17:42Z</dcterms:created>
  <dc:creator>marcin.muszyc</dc:creator>
  <dc:description/>
  <dc:language>en-US</dc:language>
  <cp:lastModifiedBy>ewelina.glusiecka</cp:lastModifiedBy>
  <dcterms:modified xsi:type="dcterms:W3CDTF">2012-06-06T10:16:31Z</dcterms:modified>
  <cp:revision>44</cp:revision>
  <dc:subject/>
  <dc:title>Prezentacja wyjazd studyjnego do  ………………………….</dc:title>
</cp:coreProperties>
</file>