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693-EF94-4392-B1C1-AE029883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4DC-362E-43AF-9173-A7CD4FBC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C1F-76B0-462F-9776-A81DB560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F13-8D75-422E-BFCB-0CFE36D5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AEF-4134-4DD3-8083-51BC466D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F78-AE1E-4E36-B4DE-11373397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559-9794-44AB-AEFF-9E6B06BC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8C4D-8E1A-4C88-A92A-552E4A7F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489-9545-4076-A93E-4D657308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0FD-C5D6-4F9E-9F78-2A57934D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E0D-4650-46E1-82CB-F5D625B9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206-5782-4B96-BD48-E4C62046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57D6-4B02-4867-A04D-EC38869F97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a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DSIĘWZIĘCIA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Obszary Chronione oraz Natura 2000 jako motory rozwoju lokalnego, na przykładzie Wielkiej Brytanii. 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898989"/>
                </a:solidFill>
                <a:latin typeface="Calibri"/>
              </a:rPr>
              <a:t>Fundacja Biebrzańs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45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1. [należy wskazać]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2. […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24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28" name="pole tekstowe 8"/>
          <p:cNvSpPr/>
          <p:nvPr/>
        </p:nvSpPr>
        <p:spPr>
          <a:xfrm>
            <a:off x="3064680" y="134136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ne istotne informa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99736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1. Pokazanie sposobów na wykorzystywanie potencjału przyrodniczego dla rozwoju lokaln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2. Zmiana w podejściu do obszarów chronionych na terenach gmin wśród samorządowców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3. Nawiązanie kontaktów w celu podjęcia współpracy   przez LGD oraz lokalne samorząd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52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8"/>
          <p:cNvSpPr/>
          <p:nvPr/>
        </p:nvSpPr>
        <p:spPr>
          <a:xfrm>
            <a:off x="3074040" y="134136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EL ORGANIZACJI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1. Wzrost wiedzy na temat wykorzystywanie obszarów naturowych jako potencjału rozwoju lokaln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2. Poznanie ‚dobrych praktyk’ zarządzania turystyką na obszarach chronionych przez lokalne organizacje i samorządy.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3. Podpisane deklaracje współpracy z LGD i JST z terenu województwa podlaskiego.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Podjęcie inicjatyw oraz inwestycji wykorzystujących lokalny potencjał przyrodnicz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65" name="pole tekstowe 8"/>
          <p:cNvSpPr/>
          <p:nvPr/>
        </p:nvSpPr>
        <p:spPr>
          <a:xfrm>
            <a:off x="3034080" y="134136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CZEKIWANE REZULTA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21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o wyjazdu studyjnego chcemy zaprosić przedstawicieli LGD oraz samorządców z terenów na których znajdują się obszary chronione oraz Natura 2000, tj. z powiatów Hajnowskiego, Augustowskiego, Monieckiego, przedstawicieli UM oraz Parków Narodowych: Biebrzańskiego, Narwiańskiego i Białowieskiego. Razem 15 osób.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trona merytoryczna wyjazdu studyjnego zostanie wsparta przez Stowarzyszenie Ptaki Polskie oraz The Wildfowl &amp; Wetlands Trust -  WWT, The Royal Society for the Protection of Birds- RSPB , które podczas seminariów będą wskazywać na możliwości wykorzystywania potencjału przyrodniczego dla rozwoju lokalnego. 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0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8"/>
          <p:cNvSpPr/>
          <p:nvPr/>
        </p:nvSpPr>
        <p:spPr>
          <a:xfrm>
            <a:off x="1906920" y="148428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PIS ORAZ LICZEBNOŚĆ GRUPY DOCELOWEJ (BENEFICJENTÓ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dynym kryterium rekrutacji będzie lokalizacja  JST  działających na terenach obszarów Natura 2000. tj.- Powiatu Monieckiego, Hajnowskiego, Augustowskiego oraz LGD  działających na tych obszarach LGD.- Puszcza Knyszyńska, Puszcza Białowieska, Nasza Suwalszczyz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9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8"/>
          <p:cNvSpPr/>
          <p:nvPr/>
        </p:nvSpPr>
        <p:spPr>
          <a:xfrm>
            <a:off x="2344680" y="13413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PONOWANY SPOSÓB REKRUTAC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byt w Norfolk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1. Rezerwat Wildfowl and Wetlands Trust w Welney, w tym: prelekcja – prezentacja fundacji WWT przez jej przedstawiciela, prezentacja Centrum WWT w Welney (1 godz.); Obie prezentacje odbędą sie w nowoczesnym Visitor Centre, zbudowanym kilka lat temu z użyciem technologii przyjaznych środowisku, z wykorzystaniem lokalnych surowców i materiałów, w sposób umożliwiający energooszczędną eksploatacje (baterie słoneczne, wykorzystanie ciepła ziemi, biologiczna oczyszczalnia ścieków). Centrum to jest także miejscem edukacji dzieci i dorosłych w zakresie tematów związanych z obszarami mokrymi. Visitor Centre – służący również jako przykład rozwiązań przyjaznych dla miłośników dzikiej przyrody oraz jako przykład nowoczesnego sposobu edukowania w zakresie ochrony przyrody. Przeszklona restauracja z widokiem na podmokłe łąki i miejsca karmienia ptaków, połączona z galerią eksponującą prace plastyczne / fotografie związane z chronionymi gatunkami ptaków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2. Rezerwat Royal Society for the Protection of Birds w Titchwell – prezentacja rezerwatu dokonana przez przedstawiciela RSPB w siedzibie rezerwatu połączonej ze sklepem, salka edukacyjna i kantyna. Spotkanie z przedstawicielem lokalnego samorządu. Prelekcja  przedstawiająca kwestie trwającej obecnie rekultywacji obszaru rezerwatu i ochrony przed zalaniem przez morze – przykład ilustrujący połączenie działań mających na celu ochronę lokalnej społeczności i ratowanie terenów cennych przyrodniczo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88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92" name="pole tekstowe 8"/>
          <p:cNvSpPr/>
          <p:nvPr/>
        </p:nvSpPr>
        <p:spPr>
          <a:xfrm>
            <a:off x="2432880" y="126828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JWAŻNIEJSZE PUNKTY PROGRAMU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3. Pobyt w kompleksie hotelowym Holkham Estate wykorzystany będzie jako ilustracja przykładu zagospodarowania istniejących, ale nieużywanych przez jakiś czas, zabudowań i infrastruktury wielkiego majątku ziemskiego i gospodarstwa rolnego w sposób promujący rozwój turystyki i rekreacji, w tym turystyki, której główną siłą napędową są miejsca cenne przyrodniczo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4. Pobyt w Cambrige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wiedzanie miasta i kilku wybranych college’ow (wstęp na dziedzińce, krużganki i do kaplic uniwersyteckich)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byt w Londynie </a:t>
            </a:r>
            <a:br>
              <a:rPr sz="1400"/>
            </a:b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ldfowl and Wetland Trust – Wetland Centre w Londynie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etland Centre jest jedynym rezerwatem WWT położnym w mieście. Jest wzorcowym przykładem zagospodarowania terenów miejskich i stworzenia obszarów cennych przyrodniczo, z jednoczesną ochroną i wzbogaceniem krajobrazu. Służy aktywnej ochronie wybranych gatunków ptaków oraz celom edukacyjnym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6. Wizyta w Parku Richmond, który jest jedną z części wielkiego projektu ochrony krajobrazu zapoczątkowanego w XIX wieku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7. Wizyta w St James Park, który  jest miejscem niezwykle cennym przyrodniczo. Jest to niewielki park leżący w sercu miasta z dużym stawem, gdzie utrzymywane są rzadkie gatunki ptaków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8. Raihnam Marshes- zwiedzanie rezerwatu słonych bagien wraz z pawilonem edukacyjnym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97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01" name="pole tekstowe 8"/>
          <p:cNvSpPr/>
          <p:nvPr/>
        </p:nvSpPr>
        <p:spPr>
          <a:xfrm>
            <a:off x="2432880" y="126828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JWAŻNIEJSZE PUNKTY PROGRAMU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9. Spotkanie z RSPB w Sandy - główna siedziba RSPB malowniczo położona w starym dworze, gdzie odbędą się spotkania z przedstawicielki organizacji dotyczące sposobów wykorzystanie zasobów przyrodniczych dla zwiększenia potencjału turystycznego regionu i rozwoju edukacji przyrodniczej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06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8"/>
          <p:cNvSpPr/>
          <p:nvPr/>
        </p:nvSpPr>
        <p:spPr>
          <a:xfrm>
            <a:off x="2432880" y="126828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JWAŻNIEJSZE PUNKTY PROGRAMU PRZEDSIĘWZ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ytuł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Users\marcin.muszyc\Desktop\ERFnRROW.jpg"/>
          <p:cNvPicPr/>
          <p:nvPr/>
        </p:nvPicPr>
        <p:blipFill>
          <a:blip r:embed="rId1"/>
          <a:stretch/>
        </p:blipFill>
        <p:spPr>
          <a:xfrm>
            <a:off x="395280" y="33336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114" name="Obraz 1" descr="logo - pol - final - 3.2.jpg"/>
          <p:cNvPicPr/>
          <p:nvPr/>
        </p:nvPicPr>
        <p:blipFill>
          <a:blip r:embed="rId2"/>
          <a:stretch/>
        </p:blipFill>
        <p:spPr>
          <a:xfrm>
            <a:off x="1979640" y="289080"/>
            <a:ext cx="2016000" cy="75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2"/>
          <p:cNvGraphicFramePr/>
          <p:nvPr/>
        </p:nvGraphicFramePr>
        <p:xfrm>
          <a:off x="4734000" y="333360"/>
          <a:ext cx="15667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4000" y="333360"/>
                    <a:ext cx="156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Picture 8" descr="C:\Users\marcin.muszyc\Desktop\logo_prow_2007_2013.jpg"/>
          <p:cNvPicPr/>
          <p:nvPr/>
        </p:nvPicPr>
        <p:blipFill>
          <a:blip r:embed="rId5"/>
          <a:stretch/>
        </p:blipFill>
        <p:spPr>
          <a:xfrm>
            <a:off x="6827760" y="330120"/>
            <a:ext cx="1273320" cy="679680"/>
          </a:xfrm>
          <a:prstGeom prst="rect">
            <a:avLst/>
          </a:prstGeom>
          <a:ln w="0">
            <a:noFill/>
          </a:ln>
        </p:spPr>
      </p:pic>
      <p:sp>
        <p:nvSpPr>
          <p:cNvPr id="118" name="pole tekstowe 8"/>
          <p:cNvSpPr/>
          <p:nvPr/>
        </p:nvSpPr>
        <p:spPr>
          <a:xfrm>
            <a:off x="2413080" y="1268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udż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rostokąt 9"/>
          <p:cNvSpPr/>
          <p:nvPr/>
        </p:nvSpPr>
        <p:spPr>
          <a:xfrm>
            <a:off x="179640" y="1052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laskie.ksow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2060640"/>
          <a:ext cx="8280360" cy="4352760"/>
        </p:xfrm>
        <a:graphic>
          <a:graphicData uri="http://schemas.openxmlformats.org/drawingml/2006/table">
            <a:tbl>
              <a:tblPr/>
              <a:tblGrid>
                <a:gridCol w="530280"/>
                <a:gridCol w="3384360"/>
                <a:gridCol w="892440"/>
                <a:gridCol w="915840"/>
                <a:gridCol w="1046160"/>
                <a:gridCol w="1511280"/>
              </a:tblGrid>
              <a:tr h="241200">
                <a:tc gridSpan="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czegółowy kosztorys realizacji operacji w rozbiciu na poszczególne koszty dział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2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zty w ramach działań</a:t>
                      </a:r>
                      <a:br>
                        <a:rPr sz="900"/>
                      </a:b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Obszary Chronione oraz Natura 2000 jako motory rozwoju lokalnego, na przykładzie UK"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dnostka mia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oś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wka jednostkowa brut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tość kosztu kwalifikowalnego   </a:t>
                      </a: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ł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3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cja wyjazdu studyjneg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żywienie dla 15 osób przez 5 d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łodniowe- obiad, kolacj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odzień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pewnienie wykładowcó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łacenie wykładowcy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dz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zejazdy i przelot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dz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zejazdy autokarem w U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o/dzie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zelo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najem tłumac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odzień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cleg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cleg w hotelu trzygwiazdkowym dla 15 osób po 5 noclegó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odzień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580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E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7:17:42Z</dcterms:created>
  <dc:creator>marcin.muszyc</dc:creator>
  <dc:description/>
  <dc:language>en-US</dc:language>
  <cp:lastModifiedBy>Fundacja Biebrzańska</cp:lastModifiedBy>
  <dcterms:modified xsi:type="dcterms:W3CDTF">2012-06-01T09:40:52Z</dcterms:modified>
  <cp:revision>40</cp:revision>
  <dc:subject/>
  <dc:title>Prezentacja wyjazd studyjnego do  ………………………….</dc:title>
</cp:coreProperties>
</file>