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0C2-55E4-42D0-9424-3AFDC7FD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504-6B7A-4595-9A03-4B480AEF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5F5-CF5F-4370-BB67-A3F14025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602-F26C-44E3-86A2-549C0F2C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0F5-9058-4CB0-AE40-9F9534DA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F6C-6C64-4804-B39A-4CBCFACF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DB0-79FB-40C0-B69C-77C4067B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CEB-A89D-4288-A99A-CF066E57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E57-171F-477C-9C6B-0724FF91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DDC-599B-4C0C-AA8F-AAA100AE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E0E-CD55-4C23-9860-903877EF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8BC-059C-42A1-8E23-F781C58F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8DF4-8EFD-4F38-A99F-C4622BFC0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84280"/>
            <a:ext cx="835164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zentacj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ZEDSIĘWZIĘCIA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yjazd studyjny – alternatywne źródła dochodu w  gospodarstwach rolnych na przykładzie Austrii”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otyczącego przedsiębiorczości na obszarach wiejskich oraz wspólnych form działalności gospodarcz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44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48" name="Symbol zastępczy tekstu 2" descr=""/>
          <p:cNvPicPr/>
          <p:nvPr/>
        </p:nvPicPr>
        <p:blipFill>
          <a:blip r:embed="rId6"/>
          <a:stretch/>
        </p:blipFill>
        <p:spPr>
          <a:xfrm>
            <a:off x="3924360" y="5516640"/>
            <a:ext cx="1008000" cy="1004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32000" y="5013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laski Ośrodek Doradztwa  Rolniczego  w Szepiet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844280"/>
            <a:ext cx="8785440" cy="35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55000"/>
              </a:lnSpc>
              <a:spcBef>
                <a:spcPts val="561"/>
              </a:spcBef>
              <a:buClr>
                <a:srgbClr val="1f497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1 euro = 4,42 z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a obiadu + kolacja - 40 euro = 176,80 zł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a noclegu ze śniadaniem - 55 euro = 243,10 zł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zyta w gospodarstwie - 150 euro x 4 gospodarstwa = 600 euro = 2652,00 z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dzór merytoryczny - 44 godz.  x  87,50 zł = 3850,00 z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łaty ekspertów austriackich  16 godz. x 50 euro = 3536,00 z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ordynacja projektem 80 godz. x 20 zł = 1600,00 z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25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8"/>
          <p:cNvSpPr/>
          <p:nvPr/>
        </p:nvSpPr>
        <p:spPr>
          <a:xfrm>
            <a:off x="3068640" y="170028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ne istotne informa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1844280"/>
            <a:ext cx="8785440" cy="35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34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8"/>
          <p:cNvSpPr/>
          <p:nvPr/>
        </p:nvSpPr>
        <p:spPr>
          <a:xfrm>
            <a:off x="3068640" y="170028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ne istotne informa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3059280" y="4581360"/>
            <a:ext cx="1904760" cy="6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52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8"/>
          <p:cNvSpPr/>
          <p:nvPr/>
        </p:nvSpPr>
        <p:spPr>
          <a:xfrm>
            <a:off x="2842920" y="134136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 ORGANIZACJI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2160720"/>
            <a:ext cx="896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elem wyjazdu j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wiązanie bezpośrednich kontaktów z rolnikami i służbami doradczy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ktyczne zapoznanie się z przykładami pozyskiwania dodatko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hodów poprzez prowadzenie  małego przetwórstwa  w gospodarst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nanie funkcjonujących w Austrii systemów sprzedaży bezpośrednie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poziomie gospodarstwa  i  rozwiązań prawno organiza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yczących wymagań higieniczno  sanitarnych oraz kontroli jak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kt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poznanie się z formami i metodami działania austriackiego doradztw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niczego na rzecz  rozwijania przedsiębiorczości  na  w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65" name="pole tekstowe 8"/>
          <p:cNvSpPr/>
          <p:nvPr/>
        </p:nvSpPr>
        <p:spPr>
          <a:xfrm>
            <a:off x="2843280" y="1341360"/>
            <a:ext cx="32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CZEKIWANE REZULTA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340360"/>
            <a:ext cx="8569080" cy="35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 mieszkańców województwa podlaskiego (rolnicy, doradc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iciele instytucji samorządowych ) zapozna się z przykład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yskiwania dodatkowych dochodów w gospodarstwach rolnych 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zyscy uczestnicy  uzyskają teoretyczną i praktyczną wiedzę jak moż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rawiać poziom dochodów w gospodarstwie poprzez sprzeda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któw przetworzonych. Poznają konkretne przykłady  mał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twórni, stosowanych w nich technologii i sposobów zarządzan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z prowadzenia sprzedaży wytworzonych w nich produk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0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8"/>
          <p:cNvSpPr/>
          <p:nvPr/>
        </p:nvSpPr>
        <p:spPr>
          <a:xfrm>
            <a:off x="2843280" y="1341360"/>
            <a:ext cx="32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CZEKIWANE REZULTA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918800"/>
            <a:ext cx="889308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 mieszkańców województwa podlaskiego (rolnicy, doradcy, przedstawic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ytucji samorządowych ) zapozna się z przykładami  pozyskiw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datkowych dochodów w gospodarstwach rolnych w  Aust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zyscy uczestnicy  uzyskają teoretyczną i praktyczną wiedzę jak moż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rawiać poziom dochodów w gospodarstwie poprzez sprzedaż produk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tworzo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baczą konkretne przykłady  małych przetwórni, stosowanych w nich technolo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posobów zarządzania, oraz prowadzenia sprzedaży wytworzonych w n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k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zyscy uczestnicy wezmą  udział w prelekcjach wygłoszonych prz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jalistów z Austriackiej Izby Rolniczej  i  dyskusjach  z miejscowymi rolnik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zyscy uczestnicy zwiększą swoją aktywność i świadomość w zakre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yskiwania dodatkowych źródeł dochodu, zostaną zmotywowani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ejmowania podobnych działań w swoich gospodarstwach lub środowiskach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wod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9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83" name="pole tekstowe 8"/>
          <p:cNvSpPr/>
          <p:nvPr/>
        </p:nvSpPr>
        <p:spPr>
          <a:xfrm>
            <a:off x="2685240" y="13413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PONOWANY SPOSÓB REKRUTAC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232000"/>
            <a:ext cx="871380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czestnicy  zostaną wyłonieni poprzez wybór spośród zgłaszających si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ustalonych przez organizatora regu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formacja o planowanej wizycie studyjnej zostanie zamieszczona na stron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netowych Sek. Reg. KSOW, PODR i w czasopiśmie „Wiadomości Rolnicze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ć ją będą również specjaliści terenowi PODR, zwłaszcza rolni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interesowanym  przetwórstwem i sprzedażą na poziomie gospodar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ganizator opracuje i udostępni wszystkim chętnym formularz zgłoszeniowy or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czegółowe zasady nabor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eneralną zasadą będzie utrzymanie proporcjonalności wśród uczestników, 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by w  wyjeździe wzięli udział rolnicy, przedstawiciele  nstytucji doradcz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instytucji samorządowych wspierających wielofunkcyjny rozwój w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acja przedsięwzięcia oparta jest na współdziałaniu z Austriacką Izbą Rolniczą, której eksperci przygotują i przedstawią charakterystykę rolnictwa ze szczególnym uwzględnieniem dodatkowych źródeł dochodu, przetwórstwa w gospodarstwie i sprzedaży bezpośredniej. Dobiorą też odpowiednie gospodarstwa do wizyt studyjnych i uczestniczyć będą w dyskusji.</a:t>
            </a:r>
            <a:br>
              <a:rPr sz="2000"/>
            </a:br>
            <a:br>
              <a:rPr sz="12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gram zakład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dzień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dojazd do Wiednia, zakwaterow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89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93" name="pole tekstowe 8"/>
          <p:cNvSpPr/>
          <p:nvPr/>
        </p:nvSpPr>
        <p:spPr>
          <a:xfrm>
            <a:off x="1042920" y="162864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JWAŻNIEJSZE PUNKTY PROGRAMU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42472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dzień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wizyta w  Izbie Rolniczej w Wiedni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potkanie z austriackimi ekspertami z dziedziny rolnictw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i przedsiębiorczości na wsi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izyta studyjna w gospodarstwie posiadającym dodatkowe źródł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dochodu /przetwórstwo, sprzedaż bezpośrednia …/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dzień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wizyty studyjne w  gospodarstwach, małych przetwórniach, itp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podsumowanie, dyskusja z przedstawicielami AIR       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dzie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odróż powrotn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98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8"/>
          <p:cNvSpPr/>
          <p:nvPr/>
        </p:nvSpPr>
        <p:spPr>
          <a:xfrm>
            <a:off x="1116000" y="14842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JWAŻNIEJSZE PUNKTY PROGRAMU PRZEDSIĘWZIĘC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cd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06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8"/>
          <p:cNvSpPr/>
          <p:nvPr/>
        </p:nvSpPr>
        <p:spPr>
          <a:xfrm>
            <a:off x="4409280" y="1125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dż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1700280"/>
          <a:ext cx="8207280" cy="3978360"/>
        </p:xfrm>
        <a:graphic>
          <a:graphicData uri="http://schemas.openxmlformats.org/drawingml/2006/table">
            <a:tbl>
              <a:tblPr/>
              <a:tblGrid>
                <a:gridCol w="536400"/>
                <a:gridCol w="3335400"/>
                <a:gridCol w="836640"/>
                <a:gridCol w="858960"/>
                <a:gridCol w="917640"/>
                <a:gridCol w="1722240"/>
              </a:tblGrid>
              <a:tr h="4647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szty w ramach operac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dnostka mi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loś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wka jednostkowa brut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rtość kosztu kwalifikowalnego 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z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4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e przygotowawcz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opracowanie karty zgłoszenia, regulaminu, ogłoszenie w pras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50,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948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anie karty zgłoszenia i regulaminu naboru /praca eksperta/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98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głoszenie w prasie lokalnej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29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zt wyjaz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 100,0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4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najem autokaru typu LUX  /w tym opłaty parkingowe, autostrad itp.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m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0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bezpieczenie uczestników wyjaz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ó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yżywienie uczestników /4 obiady,4 kolacj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ó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0,0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3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clegi ze śniadaniem /3 noclegi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ó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,0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15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19" name="pole tekstowe 8"/>
          <p:cNvSpPr/>
          <p:nvPr/>
        </p:nvSpPr>
        <p:spPr>
          <a:xfrm>
            <a:off x="3564000" y="1125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udżet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c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8360" y="1700280"/>
          <a:ext cx="8207280" cy="4230720"/>
        </p:xfrm>
        <a:graphic>
          <a:graphicData uri="http://schemas.openxmlformats.org/drawingml/2006/table">
            <a:tbl>
              <a:tblPr/>
              <a:tblGrid>
                <a:gridCol w="536400"/>
                <a:gridCol w="3335400"/>
                <a:gridCol w="836640"/>
                <a:gridCol w="42840"/>
                <a:gridCol w="816120"/>
                <a:gridCol w="917640"/>
                <a:gridCol w="1722240"/>
              </a:tblGrid>
              <a:tr h="464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szty w ramach operac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dnostka mi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loś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wka jednostkowa brut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rtość kosztu kwalifikowalnego 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z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szty zajęć merytoryczn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8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szt tłumacz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o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52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ły szkoleniowe /teczka, długopis, inn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52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łata ekspertów z Austriackiej Izby Rolniczej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d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3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52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łata wizyt w gospodarstwac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z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5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52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dzór merytoryczny (ekspe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d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080">
                <a:tc gridSpan="6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zem koszty bezpośred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 63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ordynacja projek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d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 gridSpan="6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 238,00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7:17:42Z</dcterms:created>
  <dc:creator>marcin.muszyc</dc:creator>
  <dc:description/>
  <dc:language>en-US</dc:language>
  <cp:lastModifiedBy>r.zochowski</cp:lastModifiedBy>
  <dcterms:modified xsi:type="dcterms:W3CDTF">2012-06-03T15:00:38Z</dcterms:modified>
  <cp:revision>66</cp:revision>
  <dc:subject/>
  <dc:title>Prezentacja wyjazd studyjnego do  ………………………….</dc:title>
</cp:coreProperties>
</file>