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31AD-FDD0-4ADD-AF0E-B831F2F9E5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C437-5CF0-4C1C-8792-65B786A747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BBA-6003-4C1B-A7A1-CD4DAD1F83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203C-BA70-411F-83BD-79AC918881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FF48-7C28-4BCB-BE5B-F51A46BCFA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1C57-33D8-4E42-BBB9-8BB6F29A4C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A913-7EF8-40B5-8CFD-07F163376F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D0B9-E6D9-4AC0-87CF-ADB0CA707E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A75-4C16-47B5-826F-20D13FF965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413-4EFB-4B83-810B-731C46DF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8E6-88E0-4193-AEB1-6F5EC81B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0AE-40B5-4E6B-BF7B-F42FEF9F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324-6D4F-4975-8840-BBC74315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EC6-C802-40F4-932B-979BB5AC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89E-402B-424E-AB8E-7BF40B95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21F-B094-4652-85EF-7C604B84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2AA-250E-4739-AC62-7DB3DE1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0E2-3774-4F68-8E73-9271C18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C71-C398-4124-924A-231561C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D60-9193-4735-A1D1-9CFB7A7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D16-AD3F-4BAD-AF1A-654F5D9B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137B-A372-4E25-9F47-5CCEA9974F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hyperlink" Target="mailto:yampilova@bgsha.r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oczne użytkowanie lasu</a:t>
            </a:r>
            <a:br>
              <a:rPr sz="40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ze szczególnym uwzględnieniem bazy zielarskiej,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przykładzie flory Buria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8"/>
          <p:cNvSpPr/>
          <p:nvPr/>
        </p:nvSpPr>
        <p:spPr>
          <a:xfrm>
            <a:off x="2627280" y="1341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wiązanie współpracy z Wydziałem Leśnym Buriackiej Państwowej  Akademii Rolniczej w Ułan Ude, w celu poznania ubocznego użytkowania lasu na Syberi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bycie dobrych praktyk zbioru ziół, poznanie odmian ułatwiających zbiór - na przykładzie  rokitnika pospolitego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pophae rhamnoide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stosowań ziół w medycynie lokalnej na przykładzie różeńca górskiego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hodiola rosea L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poznanie bazy zielarskiej na terenach, najbardziej zbliżonych do   natural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rozwiązań formalno – prawnych pozyskiwania płodów runa leśnego w Ros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0" name="pole tekstowe 8"/>
          <p:cNvSpPr/>
          <p:nvPr/>
        </p:nvSpPr>
        <p:spPr>
          <a:xfrm>
            <a:off x="3027240" y="134136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2"/>
          <p:cNvSpPr/>
          <p:nvPr/>
        </p:nvSpPr>
        <p:spPr>
          <a:xfrm>
            <a:off x="1079640" y="1949400"/>
            <a:ext cx="730872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ój przedsiębiorczości na obszarach wiejskich Podl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Wdrożenie ekologicznych metod pozyskania, przechowywania i przerobu płodów runa leś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oznanie gatunków ważnych pod względem gospodarczym na przykładzie czosnku syberyjskiego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ium sibiricu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mport odmian mrozoodpornych – szkody od przymrozków powodują, że tylko 10 % owoców dzikiej róży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a cani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) pochodzi ze zbiorów krajowych.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6"/>
          <a:stretch/>
        </p:blipFill>
        <p:spPr>
          <a:xfrm>
            <a:off x="6372360" y="5661000"/>
            <a:ext cx="1546200" cy="103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http://t2.gstatic.com/images?q=tbn:ANd9GcQ36XGnJzj1gXjqsgPxwtk-bAKM1FumrKUN9zvVgcu28mpMoWK9OMd7KrVe"/>
          <p:cNvPicPr/>
          <p:nvPr/>
        </p:nvPicPr>
        <p:blipFill>
          <a:blip r:embed="rId7"/>
          <a:stretch/>
        </p:blipFill>
        <p:spPr>
          <a:xfrm>
            <a:off x="7956720" y="3573360"/>
            <a:ext cx="879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dstawiciele Lasów Państwowy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rzedstawiciele przemysłu zielarskiego z terenu Nadleśnictwa Rudka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nstytucje wspierające rolnictwo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nstytucje samorządowe różnego stopnia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ebność grupy docelowej – 10 osó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2" name="pole tekstowe 8"/>
          <p:cNvSpPr/>
          <p:nvPr/>
        </p:nvSpPr>
        <p:spPr>
          <a:xfrm>
            <a:off x="755640" y="1484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0" name="pole tekstowe 8"/>
          <p:cNvSpPr/>
          <p:nvPr/>
        </p:nvSpPr>
        <p:spPr>
          <a:xfrm>
            <a:off x="2338920" y="134136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rostokąt 2"/>
          <p:cNvSpPr/>
          <p:nvPr/>
        </p:nvSpPr>
        <p:spPr>
          <a:xfrm>
            <a:off x="611280" y="2413080"/>
            <a:ext cx="82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roszone zostaną osoby reprezentujące następujące grupy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śników z Regionalnej Dyrekcji Lasów Państwow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Białymstoku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dstawicieli producentów zió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dstawicieli samorządów różnego szczebl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adców ro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8"/>
          <p:cNvSpPr/>
          <p:nvPr/>
        </p:nvSpPr>
        <p:spPr>
          <a:xfrm>
            <a:off x="1547640" y="1916280"/>
            <a:ext cx="71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2"/>
          <p:cNvSpPr/>
          <p:nvPr/>
        </p:nvSpPr>
        <p:spPr>
          <a:xfrm>
            <a:off x="1332000" y="2690640"/>
            <a:ext cx="7127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wiązanie współpracy międzynarodowej w zakresie ubocznego użytkowania lasu ze szczególnym uwzględnieniem przemysłu zielarskiego na obszarach wiejskich Podl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odmian mrozoodpornych i odmian ułatwiających zbiór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8" name="pole tekstowe 8"/>
          <p:cNvSpPr/>
          <p:nvPr/>
        </p:nvSpPr>
        <p:spPr>
          <a:xfrm>
            <a:off x="2415960" y="12682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7920" y="1844640"/>
          <a:ext cx="7145280" cy="4702320"/>
        </p:xfrm>
        <a:graphic>
          <a:graphicData uri="http://schemas.openxmlformats.org/drawingml/2006/table">
            <a:tbl>
              <a:tblPr/>
              <a:tblGrid>
                <a:gridCol w="290520"/>
                <a:gridCol w="1795320"/>
                <a:gridCol w="1109880"/>
                <a:gridCol w="357120"/>
                <a:gridCol w="1795320"/>
                <a:gridCol w="1797120"/>
              </a:tblGrid>
              <a:tr h="344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zty w ramach operacj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stka mi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oś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wka jednostkowa brut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tość kosztu kwalifikowalnego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z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lety lotnicze Warszawa – Moskwa, Irkuck –  Warszaw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legi  w Moskwie, Siewierobajkalsku, Listwiance, Arszanie, Ułan Ude, Irkucku, Sankt Petersburg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z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róż koleją transsyberyjską na trasie MOSKWA - SIEWIEROBAJKAL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 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js wodolotem na Wyspę Olch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 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jazdy pomiędzy poszczególnymi miastami  wynajętymi bus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 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za pobytowa na obszar Federacji Rosyjskie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1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za tranzytowa przez obszar Republiki Białoru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z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żywie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 z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bezpieczenie KL i NNW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z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zty pilota wyprawy, który w czasie jej trwania jest opiekunem całej grupy.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ł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z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150 z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1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8"/>
          <p:cNvSpPr/>
          <p:nvPr/>
        </p:nvSpPr>
        <p:spPr>
          <a:xfrm>
            <a:off x="3064680" y="213372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 wyprawy: 08.08.2012 – 27.08.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 projektu - Buriacka Państwowa  Akademia Rolnicza w Ułan Ude – osoba do kontaktu: Zoya Yampilova, email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yampilova@bgsha.ru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ierownik biura współpracy międzynarodowej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trakcie wyprawy wizyta w Tukijskim Parku Narodowym w celu poznania naturalnych drzewostanów świerkowych ciemnej tajgi syberyjskiej, ze szczególnym uwzględnieniem flory ru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ewelina.glusiecka</cp:lastModifiedBy>
  <dcterms:modified xsi:type="dcterms:W3CDTF">2012-06-06T07:51:41Z</dcterms:modified>
  <cp:revision>126</cp:revision>
  <dc:subject/>
  <dc:title>Prezentacja wyjazd studyjnego do  ………………………….</dc:title>
</cp:coreProperties>
</file>