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C2D0-65D5-4A4F-BD09-D1A475326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2CBF-569F-428C-BFB6-4E45A1022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490B-C14B-4E05-B2BF-D5B6F4CE1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AD64-2E06-4CD4-A682-AC70B57CF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0747-BE69-44FB-84EE-D817CB06F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39C4-355B-45A9-954B-923740413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534E-56FF-4AC9-BE6A-54E0E7EBB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F1D1-A9ED-4A07-8244-C234DDB41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913B-56B8-4AB2-B8F2-AF5950324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1BAF-4B2F-4DA4-939C-5444A40F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6F5D-FB09-4BCA-BB89-5D6F84E7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5DD3-32FC-4393-9E93-C2C7F7F2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75BFA-778C-49DB-8FCF-7439A6C28AC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up.podlasie.pl/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wmf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7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Przedsiębiorczość i partnerstwo publiczno – społeczne na rzecz rozwoju obszarów wiejskich</a:t>
            </a:r>
            <a:br>
              <a:rPr sz="4000"/>
            </a:b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(organizacja współpracy międzyterytorialnej i międzynarodowej w zakresie przedsiębiorczości na obszarach wiejskich oraz wspólnych form działalności gospodarczej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898989"/>
                </a:solidFill>
                <a:latin typeface="Calibri"/>
              </a:rPr>
              <a:t>Wojewódzki Urząd Prac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898989"/>
                </a:solidFill>
                <a:latin typeface="Calibri"/>
              </a:rPr>
              <a:t>w Białymsto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ytuł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odlaskie.ksow.p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Users\marcin.muszyc\Desktop\ERFnRROW.jpg"/>
          <p:cNvPicPr/>
          <p:nvPr/>
        </p:nvPicPr>
        <p:blipFill>
          <a:blip r:embed="rId1"/>
          <a:stretch/>
        </p:blipFill>
        <p:spPr>
          <a:xfrm>
            <a:off x="395280" y="333360"/>
            <a:ext cx="1368360" cy="665280"/>
          </a:xfrm>
          <a:prstGeom prst="rect">
            <a:avLst/>
          </a:prstGeom>
          <a:ln w="0">
            <a:noFill/>
          </a:ln>
        </p:spPr>
      </p:pic>
      <p:pic>
        <p:nvPicPr>
          <p:cNvPr id="45" name="Obraz 1" descr="logo - pol - final - 3.2.jpg"/>
          <p:cNvPicPr/>
          <p:nvPr/>
        </p:nvPicPr>
        <p:blipFill>
          <a:blip r:embed="rId2"/>
          <a:stretch/>
        </p:blipFill>
        <p:spPr>
          <a:xfrm>
            <a:off x="1979640" y="289080"/>
            <a:ext cx="201600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Object 2"/>
          <p:cNvGraphicFramePr/>
          <p:nvPr/>
        </p:nvGraphicFramePr>
        <p:xfrm>
          <a:off x="4734000" y="333360"/>
          <a:ext cx="156672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34000" y="333360"/>
                    <a:ext cx="15667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8" name="Picture 8" descr="C:\Users\marcin.muszyc\Desktop\logo_prow_2007_2013.jpg"/>
          <p:cNvPicPr/>
          <p:nvPr/>
        </p:nvPicPr>
        <p:blipFill>
          <a:blip r:embed="rId5"/>
          <a:stretch/>
        </p:blipFill>
        <p:spPr>
          <a:xfrm>
            <a:off x="6827760" y="330120"/>
            <a:ext cx="1273320" cy="6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360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1. Promowanie rozwoju przedsiębiorczości na obszarach wiejskich woj. podlaskiego, w tym w obszarze zielonych miejsc pracy z wykorzystaniem międzynarodowych dobrych praktyk</a:t>
            </a:r>
            <a:br>
              <a:rPr sz="2400"/>
            </a:b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2. Tworzenie warunków do zawiązywania partnerstw publiczno-społecznych na rzecz rozwoju przedsiębiorczości na obszarach wiejskich z wykorzystaniem nowych rozwiązań i dobrych praktyk z krajów sąsiednich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ytuł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C:\Users\marcin.muszyc\Desktop\ERFnRROW.jpg"/>
          <p:cNvPicPr/>
          <p:nvPr/>
        </p:nvPicPr>
        <p:blipFill>
          <a:blip r:embed="rId1"/>
          <a:stretch/>
        </p:blipFill>
        <p:spPr>
          <a:xfrm>
            <a:off x="395280" y="333360"/>
            <a:ext cx="1368360" cy="665280"/>
          </a:xfrm>
          <a:prstGeom prst="rect">
            <a:avLst/>
          </a:prstGeom>
          <a:ln w="0">
            <a:noFill/>
          </a:ln>
        </p:spPr>
      </p:pic>
      <p:pic>
        <p:nvPicPr>
          <p:cNvPr id="52" name="Obraz 1" descr="logo - pol - final - 3.2.jpg"/>
          <p:cNvPicPr/>
          <p:nvPr/>
        </p:nvPicPr>
        <p:blipFill>
          <a:blip r:embed="rId2"/>
          <a:stretch/>
        </p:blipFill>
        <p:spPr>
          <a:xfrm>
            <a:off x="1979640" y="289080"/>
            <a:ext cx="201600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Object 2"/>
          <p:cNvGraphicFramePr/>
          <p:nvPr/>
        </p:nvGraphicFramePr>
        <p:xfrm>
          <a:off x="4734000" y="333360"/>
          <a:ext cx="156672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34000" y="333360"/>
                    <a:ext cx="15667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" name="Picture 8" descr="C:\Users\marcin.muszyc\Desktop\logo_prow_2007_2013.jpg"/>
          <p:cNvPicPr/>
          <p:nvPr/>
        </p:nvPicPr>
        <p:blipFill>
          <a:blip r:embed="rId5"/>
          <a:stretch/>
        </p:blipFill>
        <p:spPr>
          <a:xfrm>
            <a:off x="6827760" y="330120"/>
            <a:ext cx="1273320" cy="679680"/>
          </a:xfrm>
          <a:prstGeom prst="rect">
            <a:avLst/>
          </a:prstGeom>
          <a:ln w="0">
            <a:noFill/>
          </a:ln>
        </p:spPr>
      </p:pic>
      <p:sp>
        <p:nvSpPr>
          <p:cNvPr id="56" name="pole tekstowe 8"/>
          <p:cNvSpPr/>
          <p:nvPr/>
        </p:nvSpPr>
        <p:spPr>
          <a:xfrm>
            <a:off x="3074040" y="1341360"/>
            <a:ext cx="366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CEL ORGANIZACJI PRZEDSIĘWZIĘC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rostokąt 9"/>
          <p:cNvSpPr/>
          <p:nvPr/>
        </p:nvSpPr>
        <p:spPr>
          <a:xfrm>
            <a:off x="179640" y="105264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dlaskie.ksow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915920"/>
            <a:ext cx="7772400" cy="43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Organizacja 2-dniowego seminarium na terenie woj. podlaskiego, liczba osób uczestniczących w seminarium – ok. 24, w tym przedstawicieli zagranicznych – ok. 9 osób</a:t>
            </a:r>
            <a:br>
              <a:rPr sz="1800"/>
            </a:b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Organizacja 2-dniowego seminarium na terenie Ukrainy, liczba osób uczestniczących w seminarium – ok. 12 osób ( w tym po 2 osoby z Litwy i Łotwy) oraz przedstawiciele partnera z Ukrainy</a:t>
            </a:r>
            <a:br>
              <a:rPr sz="1800"/>
            </a:b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. Zawiązanie partnerstwa o charakterze międzynarodowym (Polska, Litwa, Łotwa i Ukraina) na rzecz rozwoju przedsiębiorczości na terenach wiejskich w krajach partnerskich, w tym poprzez rozwój sektora zielonej gospodarki</a:t>
            </a:r>
            <a:br>
              <a:rPr sz="1800"/>
            </a:b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Podniesienie wiedzy nt. przedsiębiorczości na wsi – ok. 24 osob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ytuł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C:\Users\marcin.muszyc\Desktop\ERFnRROW.jpg"/>
          <p:cNvPicPr/>
          <p:nvPr/>
        </p:nvPicPr>
        <p:blipFill>
          <a:blip r:embed="rId1"/>
          <a:stretch/>
        </p:blipFill>
        <p:spPr>
          <a:xfrm>
            <a:off x="395280" y="333360"/>
            <a:ext cx="1368360" cy="665280"/>
          </a:xfrm>
          <a:prstGeom prst="rect">
            <a:avLst/>
          </a:prstGeom>
          <a:ln w="0">
            <a:noFill/>
          </a:ln>
        </p:spPr>
      </p:pic>
      <p:pic>
        <p:nvPicPr>
          <p:cNvPr id="61" name="Obraz 1" descr="logo - pol - final - 3.2.jpg"/>
          <p:cNvPicPr/>
          <p:nvPr/>
        </p:nvPicPr>
        <p:blipFill>
          <a:blip r:embed="rId2"/>
          <a:stretch/>
        </p:blipFill>
        <p:spPr>
          <a:xfrm>
            <a:off x="1979640" y="289080"/>
            <a:ext cx="201600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Object 2"/>
          <p:cNvGraphicFramePr/>
          <p:nvPr/>
        </p:nvGraphicFramePr>
        <p:xfrm>
          <a:off x="4734000" y="333360"/>
          <a:ext cx="156672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34000" y="333360"/>
                    <a:ext cx="15667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4" name="Picture 8" descr="C:\Users\marcin.muszyc\Desktop\logo_prow_2007_2013.jpg"/>
          <p:cNvPicPr/>
          <p:nvPr/>
        </p:nvPicPr>
        <p:blipFill>
          <a:blip r:embed="rId5"/>
          <a:stretch/>
        </p:blipFill>
        <p:spPr>
          <a:xfrm>
            <a:off x="6827760" y="330120"/>
            <a:ext cx="1273320" cy="679680"/>
          </a:xfrm>
          <a:prstGeom prst="rect">
            <a:avLst/>
          </a:prstGeom>
          <a:ln w="0">
            <a:noFill/>
          </a:ln>
        </p:spPr>
      </p:pic>
      <p:sp>
        <p:nvSpPr>
          <p:cNvPr id="65" name="pole tekstowe 8"/>
          <p:cNvSpPr/>
          <p:nvPr/>
        </p:nvSpPr>
        <p:spPr>
          <a:xfrm>
            <a:off x="3034080" y="1341360"/>
            <a:ext cx="266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OCZEKIWANE REZULTA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rostokąt 9"/>
          <p:cNvSpPr/>
          <p:nvPr/>
        </p:nvSpPr>
        <p:spPr>
          <a:xfrm>
            <a:off x="179640" y="105264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dlaskie.ksow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410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W przedsięwzięciu uczestniczyć będzie: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1/ w seminarium na terenie woj. podlaskiego - około 24 os.: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- przedstawiciele partnerów zagranicznych (służby zatrudnienia) realizujących na swoim terenie zadania z obszaru rynku pracy (Litwa, Łotwa, Ukraina) – po 3 osoby (razem 9 osób) –- przedstawiciele WUP w Białymstoku (ok. 5 osób) – kadra kierownicza, osoby uczestniczące w realizacji projektów, programów z obszaru rynku pracy, w tym z obszaru zielonej gospodarki,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- przedstawiciele partnerów społecznych (ok. 10 osób) działających w obszarze przedsiębiorczości na obszarach wiejskich, w tym z obszaru zielonej gospodarki.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2/ w seminarium na terenie Ukrainy – ok. 12 osób: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- przedstawiciele partnerów zagranicznych (Litwa, Łotwa) – po 2 osoby (razem 4 osoby) – przedstawiciele partnera z Ukrainy,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- przedstawiciele WUP w Białymstoku (ok. 3 os.),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- przedstawiciele partnerów społecznych (ok. 4 os.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ytuł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C:\Users\marcin.muszyc\Desktop\ERFnRROW.jpg"/>
          <p:cNvPicPr/>
          <p:nvPr/>
        </p:nvPicPr>
        <p:blipFill>
          <a:blip r:embed="rId1"/>
          <a:stretch/>
        </p:blipFill>
        <p:spPr>
          <a:xfrm>
            <a:off x="395280" y="333360"/>
            <a:ext cx="1368360" cy="665280"/>
          </a:xfrm>
          <a:prstGeom prst="rect">
            <a:avLst/>
          </a:prstGeom>
          <a:ln w="0">
            <a:noFill/>
          </a:ln>
        </p:spPr>
      </p:pic>
      <p:pic>
        <p:nvPicPr>
          <p:cNvPr id="70" name="Obraz 1" descr="logo - pol - final - 3.2.jpg"/>
          <p:cNvPicPr/>
          <p:nvPr/>
        </p:nvPicPr>
        <p:blipFill>
          <a:blip r:embed="rId2"/>
          <a:stretch/>
        </p:blipFill>
        <p:spPr>
          <a:xfrm>
            <a:off x="1979640" y="289080"/>
            <a:ext cx="201600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Object 2"/>
          <p:cNvGraphicFramePr/>
          <p:nvPr/>
        </p:nvGraphicFramePr>
        <p:xfrm>
          <a:off x="4734000" y="333360"/>
          <a:ext cx="156672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34000" y="333360"/>
                    <a:ext cx="15667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3" name="Picture 8" descr="C:\Users\marcin.muszyc\Desktop\logo_prow_2007_2013.jpg"/>
          <p:cNvPicPr/>
          <p:nvPr/>
        </p:nvPicPr>
        <p:blipFill>
          <a:blip r:embed="rId5"/>
          <a:stretch/>
        </p:blipFill>
        <p:spPr>
          <a:xfrm>
            <a:off x="6827760" y="330120"/>
            <a:ext cx="1273320" cy="679680"/>
          </a:xfrm>
          <a:prstGeom prst="rect">
            <a:avLst/>
          </a:prstGeom>
          <a:ln w="0">
            <a:noFill/>
          </a:ln>
        </p:spPr>
      </p:pic>
      <p:sp>
        <p:nvSpPr>
          <p:cNvPr id="74" name="pole tekstowe 8"/>
          <p:cNvSpPr/>
          <p:nvPr/>
        </p:nvSpPr>
        <p:spPr>
          <a:xfrm>
            <a:off x="1906920" y="1484280"/>
            <a:ext cx="622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OPIS ORAZ LICZEBNOŚĆ GRUPY DOCELOWEJ (BENEFICJENTÓW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rostokąt 9"/>
          <p:cNvSpPr/>
          <p:nvPr/>
        </p:nvSpPr>
        <p:spPr>
          <a:xfrm>
            <a:off x="179640" y="105264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dlaskie.ksow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42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Informacja o realizowanym przedsięwzięciu wraz z formularzem aplikacyjnym zostanie zamieszczona na stronie internetowej </a:t>
            </a:r>
            <a:r>
              <a:rPr b="0" lang="pl-PL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up.podlasie.pl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oraz przekazana partnerom zagranicznym.</a:t>
            </a:r>
            <a:br>
              <a:rPr sz="1600"/>
            </a:br>
            <a:br>
              <a:rPr sz="1600"/>
            </a:b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Partnerzy zagraniczni wskażą osoby do udziału w przedsięwzięciu z ramienia swoich instytucji.</a:t>
            </a:r>
            <a:br>
              <a:rPr sz="1600"/>
            </a:b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. Dyrektor WUP w Białymstoku dokona wyboru uczestników (spośród pracowników WUP, którzy złożą formularze aplikacyjne) z uwzględnieniem charakteru wykonywanych zadań. </a:t>
            </a:r>
            <a:br>
              <a:rPr sz="1600"/>
            </a:b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Przedstawiciele partnerów społecznych złożą formularze aplikacyjne (udostępnione na stronie internetowej). Oceny formularzy dokona 3-osobowa Komisja złożona z przedstawicieli WUP i UMWP (KSOW).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Zastosowane kryteria rekrutacji: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- zasięg działań,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- obszar działań,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- aktywność w obszarze rozwoju przedsiębiorczości na wsi, w tym zielonej gospodarki.</a:t>
            </a:r>
            <a:br>
              <a:rPr sz="1600"/>
            </a:b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stateczną decyzję w sprawie wyboru uczestników podejmie Dyrektor WUP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ytuł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C:\Users\marcin.muszyc\Desktop\ERFnRROW.jpg"/>
          <p:cNvPicPr/>
          <p:nvPr/>
        </p:nvPicPr>
        <p:blipFill>
          <a:blip r:embed="rId2"/>
          <a:stretch/>
        </p:blipFill>
        <p:spPr>
          <a:xfrm>
            <a:off x="395280" y="333360"/>
            <a:ext cx="1368360" cy="665280"/>
          </a:xfrm>
          <a:prstGeom prst="rect">
            <a:avLst/>
          </a:prstGeom>
          <a:ln w="0">
            <a:noFill/>
          </a:ln>
        </p:spPr>
      </p:pic>
      <p:pic>
        <p:nvPicPr>
          <p:cNvPr id="79" name="Obraz 1" descr="logo - pol - final - 3.2.jpg"/>
          <p:cNvPicPr/>
          <p:nvPr/>
        </p:nvPicPr>
        <p:blipFill>
          <a:blip r:embed="rId3"/>
          <a:stretch/>
        </p:blipFill>
        <p:spPr>
          <a:xfrm>
            <a:off x="1979640" y="289080"/>
            <a:ext cx="201600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" name="Object 2"/>
          <p:cNvGraphicFramePr/>
          <p:nvPr/>
        </p:nvGraphicFramePr>
        <p:xfrm>
          <a:off x="4734000" y="333360"/>
          <a:ext cx="1566720" cy="608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1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34000" y="333360"/>
                    <a:ext cx="15667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" name="Picture 8" descr="C:\Users\marcin.muszyc\Desktop\logo_prow_2007_2013.jpg"/>
          <p:cNvPicPr/>
          <p:nvPr/>
        </p:nvPicPr>
        <p:blipFill>
          <a:blip r:embed="rId6"/>
          <a:stretch/>
        </p:blipFill>
        <p:spPr>
          <a:xfrm>
            <a:off x="6827760" y="330120"/>
            <a:ext cx="1273320" cy="679680"/>
          </a:xfrm>
          <a:prstGeom prst="rect">
            <a:avLst/>
          </a:prstGeom>
          <a:ln w="0">
            <a:noFill/>
          </a:ln>
        </p:spPr>
      </p:pic>
      <p:sp>
        <p:nvSpPr>
          <p:cNvPr id="83" name="pole tekstowe 8"/>
          <p:cNvSpPr/>
          <p:nvPr/>
        </p:nvSpPr>
        <p:spPr>
          <a:xfrm>
            <a:off x="2344680" y="1341360"/>
            <a:ext cx="38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PROPONOWANY SPOSÓB REKRUTACJ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rostokąt 9"/>
          <p:cNvSpPr/>
          <p:nvPr/>
        </p:nvSpPr>
        <p:spPr>
          <a:xfrm>
            <a:off x="179640" y="105264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dlaskie.ksow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844280"/>
            <a:ext cx="7772400" cy="43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Organizacja 2-dniowego seminarium na terenie woj. podlaskiego, w ramach którego przewiduje się: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- część teoretyczną obejmującą prezentacje dobrych praktyk z zakresu rozwoju przedsiębiorczości na terenach wiejskich z uwzględnieniem zielonej gospodarki przez przedstawicieli partnerów zagranicznych i krajowych (w siedzibie WUP) – przedstawiciele partnerów zagranicznych i krajowych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- część praktyczną obejmującą wyjazdy studyjne do wybranych gospodarstw działających w obszarze zielonej gospodarki na terenie woj. podlaskiego (np. BARTOSZ w Czarnej Białostockiej, ADAMPOL Białystok, gospodarstwa agroturystyczne, ogrodnicze) celem zaprezentowania dobrych praktyk.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artnerzy zagraniczni pokryją koszty podróży z własnego kraju do Białegostoku i z powrotem, natomiast pozostałe koszty związane z organizacją przedsięwzięcia zostaną pokryte w ramach KSOW.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- podsumowanie wizyty, przyjęcie założeń do dalszej współpracy,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Liczba uczestników – ok. 24 os. Okres realizacji – wrzesień 2012 r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ytuł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C:\Users\marcin.muszyc\Desktop\ERFnRROW.jpg"/>
          <p:cNvPicPr/>
          <p:nvPr/>
        </p:nvPicPr>
        <p:blipFill>
          <a:blip r:embed="rId1"/>
          <a:stretch/>
        </p:blipFill>
        <p:spPr>
          <a:xfrm>
            <a:off x="395280" y="333360"/>
            <a:ext cx="1368360" cy="665280"/>
          </a:xfrm>
          <a:prstGeom prst="rect">
            <a:avLst/>
          </a:prstGeom>
          <a:ln w="0">
            <a:noFill/>
          </a:ln>
        </p:spPr>
      </p:pic>
      <p:pic>
        <p:nvPicPr>
          <p:cNvPr id="88" name="Obraz 1" descr="logo - pol - final - 3.2.jpg"/>
          <p:cNvPicPr/>
          <p:nvPr/>
        </p:nvPicPr>
        <p:blipFill>
          <a:blip r:embed="rId2"/>
          <a:stretch/>
        </p:blipFill>
        <p:spPr>
          <a:xfrm>
            <a:off x="1979640" y="289080"/>
            <a:ext cx="201600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" name="Object 2"/>
          <p:cNvGraphicFramePr/>
          <p:nvPr/>
        </p:nvGraphicFramePr>
        <p:xfrm>
          <a:off x="4734000" y="333360"/>
          <a:ext cx="156672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34000" y="333360"/>
                    <a:ext cx="15667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Picture 8" descr="C:\Users\marcin.muszyc\Desktop\logo_prow_2007_2013.jpg"/>
          <p:cNvPicPr/>
          <p:nvPr/>
        </p:nvPicPr>
        <p:blipFill>
          <a:blip r:embed="rId5"/>
          <a:stretch/>
        </p:blipFill>
        <p:spPr>
          <a:xfrm>
            <a:off x="6827760" y="330120"/>
            <a:ext cx="1273320" cy="679680"/>
          </a:xfrm>
          <a:prstGeom prst="rect">
            <a:avLst/>
          </a:prstGeom>
          <a:ln w="0">
            <a:noFill/>
          </a:ln>
        </p:spPr>
      </p:pic>
      <p:sp>
        <p:nvSpPr>
          <p:cNvPr id="92" name="pole tekstowe 8"/>
          <p:cNvSpPr/>
          <p:nvPr/>
        </p:nvSpPr>
        <p:spPr>
          <a:xfrm>
            <a:off x="2432880" y="126828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NAJWAŻNIEJSZE PUNKTY PROGRAMU PRZEDSIĘWZIĘC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rostokąt 9"/>
          <p:cNvSpPr/>
          <p:nvPr/>
        </p:nvSpPr>
        <p:spPr>
          <a:xfrm>
            <a:off x="179640" y="105264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dlaskie.ksow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844280"/>
            <a:ext cx="7772400" cy="43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Organizacja 2-dniowego wyjazdu do Partnera ukraińskiego (Kijów, Skole) z udziałem przedstawicieli z Litwy, Łotwy, WUP oraz partnerów społecznych, w ramach którego planuje się: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- podpisanie Porozumienia pomiędzy przedstawicielami Polski, Litwy, Łotwy i Ukrainy na rzecz rozwoju przedsiębiorczości na terenach wiejskich, w szczególności poprzez rozwój sektora zielonej gospodarki,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- prezentacja dobrych praktyk – Kijów oraz Skole (wsparcie zielonej turystyki, partnerstwo publiczno-społeczne, nowe tereny rekreacyjne, miejsca pracy w resortach narciarskich – zwiedzanie miejsc związanych z zieloną turystyką, nowe miejsca pracy w Regionie Karpackim, przedsiębiorstwa rolne, przedsiębiorczość na obszarach wiejskich, bio-technologie). Uczestnicy otrzymają materiały szkoleniowe.</a:t>
            </a:r>
            <a:br>
              <a:rPr sz="1600"/>
            </a:b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rzedstawiciele Litwy i Łotwy pokryją koszty dojazdu  do Białegostoku i  z powrotem natomiast WUP w ramach KSOW zapewni transport na Ukrainę, wyżywienie, noclegi dla wszystkich  uczestników wyjazdu  - ok. 12 osób. Okres realizacji – październik 2012 r. (4 dni łącznie z dojazdami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ytuł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C:\Users\marcin.muszyc\Desktop\ERFnRROW.jpg"/>
          <p:cNvPicPr/>
          <p:nvPr/>
        </p:nvPicPr>
        <p:blipFill>
          <a:blip r:embed="rId1"/>
          <a:stretch/>
        </p:blipFill>
        <p:spPr>
          <a:xfrm>
            <a:off x="395280" y="333360"/>
            <a:ext cx="1368360" cy="665280"/>
          </a:xfrm>
          <a:prstGeom prst="rect">
            <a:avLst/>
          </a:prstGeom>
          <a:ln w="0">
            <a:noFill/>
          </a:ln>
        </p:spPr>
      </p:pic>
      <p:pic>
        <p:nvPicPr>
          <p:cNvPr id="97" name="Obraz 1" descr="logo - pol - final - 3.2.jpg"/>
          <p:cNvPicPr/>
          <p:nvPr/>
        </p:nvPicPr>
        <p:blipFill>
          <a:blip r:embed="rId2"/>
          <a:stretch/>
        </p:blipFill>
        <p:spPr>
          <a:xfrm>
            <a:off x="1979640" y="289080"/>
            <a:ext cx="201600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Object 2"/>
          <p:cNvGraphicFramePr/>
          <p:nvPr/>
        </p:nvGraphicFramePr>
        <p:xfrm>
          <a:off x="4734000" y="333360"/>
          <a:ext cx="156672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34000" y="333360"/>
                    <a:ext cx="15667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0" name="Picture 8" descr="C:\Users\marcin.muszyc\Desktop\logo_prow_2007_2013.jpg"/>
          <p:cNvPicPr/>
          <p:nvPr/>
        </p:nvPicPr>
        <p:blipFill>
          <a:blip r:embed="rId5"/>
          <a:stretch/>
        </p:blipFill>
        <p:spPr>
          <a:xfrm>
            <a:off x="6827760" y="330120"/>
            <a:ext cx="1273320" cy="679680"/>
          </a:xfrm>
          <a:prstGeom prst="rect">
            <a:avLst/>
          </a:prstGeom>
          <a:ln w="0">
            <a:noFill/>
          </a:ln>
        </p:spPr>
      </p:pic>
      <p:sp>
        <p:nvSpPr>
          <p:cNvPr id="101" name="pole tekstowe 8"/>
          <p:cNvSpPr/>
          <p:nvPr/>
        </p:nvSpPr>
        <p:spPr>
          <a:xfrm>
            <a:off x="2444400" y="1268280"/>
            <a:ext cx="603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NAJWAŻNIEJSZE PUNKTY PROGRAMU PRZEDSIĘWZIĘCIA – c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rostokąt 9"/>
          <p:cNvSpPr/>
          <p:nvPr/>
        </p:nvSpPr>
        <p:spPr>
          <a:xfrm>
            <a:off x="179640" y="105264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dlaskie.ksow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ytuł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C:\Users\marcin.muszyc\Desktop\ERFnRROW.jpg"/>
          <p:cNvPicPr/>
          <p:nvPr/>
        </p:nvPicPr>
        <p:blipFill>
          <a:blip r:embed="rId1"/>
          <a:stretch/>
        </p:blipFill>
        <p:spPr>
          <a:xfrm>
            <a:off x="395280" y="333360"/>
            <a:ext cx="1368360" cy="665280"/>
          </a:xfrm>
          <a:prstGeom prst="rect">
            <a:avLst/>
          </a:prstGeom>
          <a:ln w="0">
            <a:noFill/>
          </a:ln>
        </p:spPr>
      </p:pic>
      <p:pic>
        <p:nvPicPr>
          <p:cNvPr id="105" name="Obraz 1" descr="logo - pol - final - 3.2.jpg"/>
          <p:cNvPicPr/>
          <p:nvPr/>
        </p:nvPicPr>
        <p:blipFill>
          <a:blip r:embed="rId2"/>
          <a:stretch/>
        </p:blipFill>
        <p:spPr>
          <a:xfrm>
            <a:off x="1979640" y="289080"/>
            <a:ext cx="201600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6" name="Object 2"/>
          <p:cNvGraphicFramePr/>
          <p:nvPr/>
        </p:nvGraphicFramePr>
        <p:xfrm>
          <a:off x="4734000" y="333360"/>
          <a:ext cx="156672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34000" y="333360"/>
                    <a:ext cx="15667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8" name="Picture 8" descr="C:\Users\marcin.muszyc\Desktop\logo_prow_2007_2013.jpg"/>
          <p:cNvPicPr/>
          <p:nvPr/>
        </p:nvPicPr>
        <p:blipFill>
          <a:blip r:embed="rId5"/>
          <a:stretch/>
        </p:blipFill>
        <p:spPr>
          <a:xfrm>
            <a:off x="6827760" y="330120"/>
            <a:ext cx="1273320" cy="679680"/>
          </a:xfrm>
          <a:prstGeom prst="rect">
            <a:avLst/>
          </a:prstGeom>
          <a:ln w="0">
            <a:noFill/>
          </a:ln>
        </p:spPr>
      </p:pic>
      <p:sp>
        <p:nvSpPr>
          <p:cNvPr id="109" name="pole tekstowe 8"/>
          <p:cNvSpPr/>
          <p:nvPr/>
        </p:nvSpPr>
        <p:spPr>
          <a:xfrm>
            <a:off x="2413080" y="126828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Budż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rostokąt 9"/>
          <p:cNvSpPr/>
          <p:nvPr/>
        </p:nvSpPr>
        <p:spPr>
          <a:xfrm>
            <a:off x="179640" y="105264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dlaskie.ksow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539640" y="1628640"/>
          <a:ext cx="8136000" cy="4016520"/>
        </p:xfrm>
        <a:graphic>
          <a:graphicData uri="http://schemas.openxmlformats.org/drawingml/2006/table">
            <a:tbl>
              <a:tblPr/>
              <a:tblGrid>
                <a:gridCol w="466920"/>
                <a:gridCol w="3333600"/>
                <a:gridCol w="836640"/>
                <a:gridCol w="858960"/>
                <a:gridCol w="917640"/>
                <a:gridCol w="1722240"/>
              </a:tblGrid>
              <a:tr h="61308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p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szty w ramach operacj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dnostka miar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ość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wka jednostkowa brutto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rtość kosztu kwalifikowalnego  </a:t>
                      </a: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zł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668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27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zacja 2-dniowego seminarium na terenie Polsk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48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1778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wis kawowy (2 dni x 24 os.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obodni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0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27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ynajęcie busa na potrzeby wyjazdów studyjnych (2 dni)– usługa zlecon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zt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00,00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00,00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96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clegi gości zagranicznych  (9 osóbX3 noclegi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zt.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,00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100,00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78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yżywienie uczestników (24 os.x2 dni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obod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00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00,00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75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łumacz języka rosyjskiego  (2dnix8 godz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dzi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,00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00,00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50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zacja 2-dniowego seminarium na terenie Ukrain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92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5112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kup usługi organizacji wyjazdu na Ukrainę ok. 12 osób (2 dni)– usługa całościowo zlecona obejmuje wszystkie koszty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ługa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0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0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08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ty z tytułu podróży zagranicznej (12 osób x 4 doby x0,25% diety= 1 dieta/os. x 12 os. =12 diet (1dieta=48 USD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2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1320">
                <a:tc gridSpan="5"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ZE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.4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711440"/>
            <a:ext cx="7772400" cy="459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WUP w Białymstoku realizuje w okresie  </a:t>
            </a: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01.05.2011 – 30.04.2013 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projekt pn. </a:t>
            </a:r>
            <a:r>
              <a:rPr b="1" i="1" lang="pl-PL" sz="1400" spc="-1" strike="noStrike">
                <a:solidFill>
                  <a:srgbClr val="000000"/>
                </a:solidFill>
                <a:latin typeface="Calibri"/>
              </a:rPr>
              <a:t>„Partnerstwo na rzecz rozwoju i promocji zielonych miejsc pracy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” w ramach Poddziałania 6.1.1 Wsparcie osób pozostających bez zatrudnienia na regionalnym rynku pracy POKL.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 - W ramach projektu  zostały zawiązane  2 partnerstwa  (regionalne publiczno-społeczne i ponadnarodowe).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- Rekomendacje  dla rozwoju sektora zielonej gospodarki w regionie przy wykorzystaniu doświadczeń w tym zakresie partnerów zagranicznych (Anglia, Hiszpania) – przewidywany okres  opracowania rekomendacji – VI-VII. 2012.</a:t>
            </a:r>
            <a:br>
              <a:rPr sz="1400"/>
            </a:b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W ramach planowanego przedsięwzięcia  (KSOW) </a:t>
            </a:r>
            <a:br>
              <a:rPr sz="1600"/>
            </a:b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zostaną wykorzystane rekomendacje wypracowane  w ramach ww. projektu dla  rozwoju sektora zielonej gospodarki w regionie,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- możliwość wymiany dobrych praktyk  również z krajami nie należącymi do UE,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ytuł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C:\Users\marcin.muszyc\Desktop\ERFnRROW.jpg"/>
          <p:cNvPicPr/>
          <p:nvPr/>
        </p:nvPicPr>
        <p:blipFill>
          <a:blip r:embed="rId1"/>
          <a:stretch/>
        </p:blipFill>
        <p:spPr>
          <a:xfrm>
            <a:off x="395280" y="333360"/>
            <a:ext cx="1368360" cy="665280"/>
          </a:xfrm>
          <a:prstGeom prst="rect">
            <a:avLst/>
          </a:prstGeom>
          <a:ln w="0">
            <a:noFill/>
          </a:ln>
        </p:spPr>
      </p:pic>
      <p:pic>
        <p:nvPicPr>
          <p:cNvPr id="115" name="Obraz 1" descr="logo - pol - final - 3.2.jpg"/>
          <p:cNvPicPr/>
          <p:nvPr/>
        </p:nvPicPr>
        <p:blipFill>
          <a:blip r:embed="rId2"/>
          <a:stretch/>
        </p:blipFill>
        <p:spPr>
          <a:xfrm>
            <a:off x="1979640" y="289080"/>
            <a:ext cx="201600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6" name="Object 2"/>
          <p:cNvGraphicFramePr/>
          <p:nvPr/>
        </p:nvGraphicFramePr>
        <p:xfrm>
          <a:off x="4734000" y="333360"/>
          <a:ext cx="156672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34000" y="333360"/>
                    <a:ext cx="15667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8" name="Picture 8" descr="C:\Users\marcin.muszyc\Desktop\logo_prow_2007_2013.jpg"/>
          <p:cNvPicPr/>
          <p:nvPr/>
        </p:nvPicPr>
        <p:blipFill>
          <a:blip r:embed="rId5"/>
          <a:stretch/>
        </p:blipFill>
        <p:spPr>
          <a:xfrm>
            <a:off x="6827760" y="330120"/>
            <a:ext cx="1273320" cy="679680"/>
          </a:xfrm>
          <a:prstGeom prst="rect">
            <a:avLst/>
          </a:prstGeom>
          <a:ln w="0">
            <a:noFill/>
          </a:ln>
        </p:spPr>
      </p:pic>
      <p:sp>
        <p:nvSpPr>
          <p:cNvPr id="119" name="pole tekstowe 8"/>
          <p:cNvSpPr/>
          <p:nvPr/>
        </p:nvSpPr>
        <p:spPr>
          <a:xfrm>
            <a:off x="3064680" y="1341360"/>
            <a:ext cx="24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Inne istotne informac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rostokąt 9"/>
          <p:cNvSpPr/>
          <p:nvPr/>
        </p:nvSpPr>
        <p:spPr>
          <a:xfrm>
            <a:off x="179640" y="105264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dlaskie.ksow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4T07:17:42Z</dcterms:created>
  <dc:creator>marcin.muszyc</dc:creator>
  <dc:description/>
  <dc:language>en-US</dc:language>
  <cp:lastModifiedBy>Irena Sawicka</cp:lastModifiedBy>
  <cp:lastPrinted>2012-06-05T08:45:49Z</cp:lastPrinted>
  <dcterms:modified xsi:type="dcterms:W3CDTF">2012-06-06T08:29:00Z</dcterms:modified>
  <cp:revision>77</cp:revision>
  <dc:subject/>
  <dc:title>Prezentacja wyjazd studyjnego do  ………………………….</dc:title>
</cp:coreProperties>
</file>