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0B5-4FE9-452C-A568-BA8FE945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EEF-719E-4C19-B0A3-A353B5B3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948-B876-4773-9086-2CEF0200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E0A-58D4-4CE7-835C-84BE634E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AA1-C332-47EC-8E70-851A85A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DD8-F474-44F7-8629-0EABB54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665-D68E-4274-843B-64E6D89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9F5-4405-48B1-B6AF-28053E5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8C8-708F-42A1-9E02-F7973A9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A82-EEAC-4D3B-A530-B9F3EBF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E35-E00F-4740-A1D8-E0F6E19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EDF-FBEB-48A3-B11E-EFE1617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E1F5-2BB5-4EC6-80CB-8783A33FF9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EDSIĘWZIĘCIA </a:t>
            </a:r>
            <a:br>
              <a:rPr sz="40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Litewskie przykłady  wykorzystania wiejskiej architektury drewnianej i  atrakcyjności krajobrazu  do agroturystyki </a:t>
            </a:r>
            <a:br>
              <a:rPr sz="4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tyczącego przedsiębiorczości/ dziedzictwa przyrodniczego i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898989"/>
                </a:solidFill>
                <a:latin typeface="Calibri"/>
              </a:rPr>
              <a:t>Termin realizacji wrzesień – październik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07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Zapoznanie się z  przykładami wykorzystania i zachowania wiejskiej architektury drewnianej do celów turystycznych, na przykładzie rejonu Dzukijos na Litwi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Pokazanie znaczenia tradycyjnego krajobrazu wsi i możliwości  jego wykorzystania w turystyce,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Nawiązanie kontaktów z kwaterodawcami litewski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Wymiana doświadczeń między kwaterodawcami na temat funkcjonowania agroturysty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321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 Wzrost  zainteresowania zachowaniem i wykorzystaniem cennych obiektów architektury drewnianej do innej funkcji np. agroturystyka, galerie, muzea, pracownie rzemieślnicze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Uczenie poczucia smaku, piękna i harmonii, kształtowanie gustów w architekturze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Wskazanie na możliwości odnawiania starych domów zgodnie z wzorami regionalnej architektury, zachowanie ich tradycyjnego wyglądu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4. Ukazanie wartości tradycyjnego krajobrazu wsi i jego znaczenie dla turystyki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5. Zapoznanie się z zasadami prowadzenia działalności agroturystycznej na Litwie, stworzenie podstaw do sieci współpracy  i kontaktów przy  obsłudze turys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321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Rolnicy prowadzący działalność agroturystyczną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Rolnicy poszukujący nowych źródeł dochod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Mieszkańcy wsi zainteresowani zachowaniem cennych walorów architektonicznych  i krajobrazu kulturowego ws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Przedstawiciele Lokalnych Grup Działania województwa podlaski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czebność grupy docelowej 24 osoby plus organizator i kierowca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Ogłoszenia za pośrednictwem mediów lokalnych, strony internetowej wrotapodlasia.pl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Nabór osób z polecenia Podlaskiego Ośrodka Doradztwa Rolnicz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Udział przedstawicieli i członków  stowarzyszeń agroturystycznych województwa podlaskiego,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Nabór spośród osób zajmujących się turystyką z   Lokalnych Grup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880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Wizyta studyjna w wsiach z zachowanymi cennymi walorami architektury drewnianej rejonu Parku Narodowego Dzukijos na Litwi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Zapoznanie się z przykładami wykorzystania architektury drewnianej do agroturystyk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Wizyta i prezentacja 2 gospodarstw  agroturystych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4. Wykład na temat agroturystyki na Litwie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5. Wizyta w siedzibie parku Narodowego Dzukijos w Mereczu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ezentacje tematyczne będą w formie wizyt, spotkań i prezentacji oraz nieformalnych rozmów i wymiany doświadczeń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00040" y="1714680"/>
          <a:ext cx="8215200" cy="3929040"/>
        </p:xfrm>
        <a:graphic>
          <a:graphicData uri="http://schemas.openxmlformats.org/drawingml/2006/table">
            <a:tbl>
              <a:tblPr/>
              <a:tblGrid>
                <a:gridCol w="506520"/>
                <a:gridCol w="3333600"/>
                <a:gridCol w="836640"/>
                <a:gridCol w="860400"/>
                <a:gridCol w="963720"/>
                <a:gridCol w="1714320"/>
              </a:tblGrid>
              <a:tr h="87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 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zł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najem  autoka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m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zpieczenie uczestników  wyjazd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y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 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łaty drogowe, parkingi ,wine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p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kład i prezentacja gospodarstwa, opłaty ekspert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.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 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cle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żywienie (2 obiady, śniadanie , kolac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rządzanie projek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d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Litwa jest doskonałym przykładem gdzie dużą uwagę przykłada się do zachowania drewnianej architektury i skąd możemy czerpać wzorce . We wsiach etnograficznych Zervynos, Puvociai i Leneżeris można zobaczyć przy pracy autentycznych rzemieślników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Nawiązanie kontaktów przyczynić się może do wymiany turystów przebywających w przygranicznych gospodarstwach agroturystyczny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czestnicy otrzymują 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wyżywienie podczas pobytu( 2 obiady, śniadanie i dwie kolacje), oraz nocleg w gospodarstwie agroturystycznym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transport  autokarem , ubezpieczenie, nadzór merytoryczny i organizacyj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ewelina.glusiecka</cp:lastModifiedBy>
  <dcterms:modified xsi:type="dcterms:W3CDTF">2012-06-06T06:11:31Z</dcterms:modified>
  <cp:revision>72</cp:revision>
  <dc:subject/>
  <dc:title>Prezentacja wyjazd studyjnego do  ………………………….</dc:title>
</cp:coreProperties>
</file>