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598-AD55-423A-80C3-BB526136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7EF-5CAB-4980-BE01-1EF55C68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6F3-6325-49BE-9574-A0007A8C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E1C-8DCA-4423-B6BE-8816AA5E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38A-18CC-4137-A037-70AFD3C6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DCE-E45F-4B52-AA7A-1E1C2B0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981-8B85-4253-81B1-43D11AC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F3B-31A1-487B-8988-60D5770B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DFF-D9A2-4ADE-8B90-14883A02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C15-4137-416B-B8A0-C06406F8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867-A599-43FF-9AAD-064B29C3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DA6-604E-4754-8E97-12BC3F2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EEE2-3C6A-4ADE-86EC-9489C63A41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ezentacja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EDSIĘWZIĘCIA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łochy – „Produkt lokalny w turystyce wiejskiej”</a:t>
            </a:r>
            <a:br>
              <a:rPr sz="4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t. dziedzictwa przyrodniczego i kulturow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898989"/>
                </a:solidFill>
                <a:latin typeface="Calibri"/>
              </a:rPr>
              <a:t>-SR KSOW oraz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i="1" lang="pl-PL" sz="2200" spc="-1" strike="noStrike">
                <a:solidFill>
                  <a:srgbClr val="898989"/>
                </a:solidFill>
                <a:latin typeface="Calibri"/>
              </a:rPr>
              <a:t>-LGD „Tygiel Doliny Bugu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898989"/>
                </a:solidFill>
                <a:latin typeface="Calibri"/>
              </a:rPr>
              <a:t>LGD „Kanał Augustowski i Rospuda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898989"/>
                </a:solidFill>
                <a:latin typeface="Calibri"/>
              </a:rPr>
              <a:t>LGD „Nasza Suwalszczyzna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i="1" lang="pl-PL" sz="2200" spc="-1" strike="noStrike">
                <a:solidFill>
                  <a:srgbClr val="898989"/>
                </a:solidFill>
                <a:latin typeface="Calibri"/>
              </a:rPr>
              <a:t>Stowarzyszenie „Macierzanka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4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1. Podnoszenie jakości oferty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agroturystycznej.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2. Zwiększenie roli produktów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lokalnych w żywieniu turystów.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3. Skracanie łańcuchów sprzedaży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oduktów lokalnych.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4. Przeniesienie dobrych praktyk w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zakresie Slow-Foo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8"/>
          <p:cNvSpPr/>
          <p:nvPr/>
        </p:nvSpPr>
        <p:spPr>
          <a:xfrm>
            <a:off x="3074040" y="1341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L ORGANIZACJI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6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8"/>
          <p:cNvSpPr/>
          <p:nvPr/>
        </p:nvSpPr>
        <p:spPr>
          <a:xfrm>
            <a:off x="3034080" y="134136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e tekstowe 9"/>
          <p:cNvSpPr/>
          <p:nvPr/>
        </p:nvSpPr>
        <p:spPr>
          <a:xfrm>
            <a:off x="900000" y="227664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alizacja filmu informacyjnego z wyjaz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wiązanie współpracy z regionem o dużym doświadczeniu w zakresie produktów lokaln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dobycie doświadczeń w zakresie nowych form dystrybucji produktów lokalnych (krótkie łańcuchy sprzedaż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W wyjeździe weźmie udział 12-15 osób: stowarzyszenia agroturystyczne, stowarzyszenia producentów, lokalne grupy działania, grupa robocza KSOW, UMWP. </a:t>
            </a:r>
            <a:br>
              <a:rPr sz="3600"/>
            </a:br>
            <a:r>
              <a:rPr b="1" lang="pl-PL" sz="6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Reporter z kamer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8"/>
          <p:cNvSpPr/>
          <p:nvPr/>
        </p:nvSpPr>
        <p:spPr>
          <a:xfrm>
            <a:off x="1906920" y="148428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IS ORAZ LICZEBNOŚĆ GRUPY DOCELOWEJ (BENEFICJEN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Wybór uczestników będzie dokonany przez członków Grupy Roboczej KSOW z uwzględnieniem możliwości rozpropagowania zdobytej wiedzy przez uczestnika</a:t>
            </a:r>
            <a:br>
              <a:rPr sz="28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 uwagę powinny zostać wzięte uwarunkowania agroturystyczne regionu kandy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9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2344680" y="1341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PONOWANY SPOSÓB REKRUTAC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1. Agro-bistro,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2. Krótkie łańcuchy sprzedaży,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3. Bezpieczeństwo żywności w agroturystyce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4. Dobre praktyki „Slow Foo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88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92" name="pole tekstowe 8"/>
          <p:cNvSpPr/>
          <p:nvPr/>
        </p:nvSpPr>
        <p:spPr>
          <a:xfrm>
            <a:off x="2432880" y="126828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9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8"/>
          <p:cNvSpPr/>
          <p:nvPr/>
        </p:nvSpPr>
        <p:spPr>
          <a:xfrm>
            <a:off x="2413080" y="1268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628640"/>
          <a:ext cx="8209080" cy="4056120"/>
        </p:xfrm>
        <a:graphic>
          <a:graphicData uri="http://schemas.openxmlformats.org/drawingml/2006/table">
            <a:tbl>
              <a:tblPr/>
              <a:tblGrid>
                <a:gridCol w="538200"/>
                <a:gridCol w="3333600"/>
                <a:gridCol w="836640"/>
                <a:gridCol w="860400"/>
                <a:gridCol w="917640"/>
                <a:gridCol w="1722600"/>
              </a:tblGrid>
              <a:tr h="871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y w ramach oper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nostka mia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ść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wka jednostkowa brutto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tość kosztu kwalifikowalnego  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ł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4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 koordynatora (organizacja wyjazdu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ługa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łumacz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łu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y wstęp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łu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 autobus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łu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  reporte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łu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ty lotnicz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legi (4 doby, max 100 Euro za dobę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żywienie (4 doby, 42 euro za dobę)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 gridSpan="5"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000 z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velio Marini – wybitna osobowość rozwoju obszarów wiejski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0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8"/>
          <p:cNvSpPr/>
          <p:nvPr/>
        </p:nvSpPr>
        <p:spPr>
          <a:xfrm>
            <a:off x="3064680" y="1341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14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8"/>
          <p:cNvSpPr/>
          <p:nvPr/>
        </p:nvSpPr>
        <p:spPr>
          <a:xfrm>
            <a:off x="3064680" y="1341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Users\marcin.muszyc\Desktop\Avelio\Veneto valdobbiadene.jpg"/>
          <p:cNvPicPr/>
          <p:nvPr/>
        </p:nvPicPr>
        <p:blipFill>
          <a:blip r:embed="rId6"/>
          <a:stretch/>
        </p:blipFill>
        <p:spPr>
          <a:xfrm>
            <a:off x="5435640" y="1413000"/>
            <a:ext cx="2849400" cy="3419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marcin.muszyc\Desktop\Avelio\marche poggio antico.jpg"/>
          <p:cNvPicPr/>
          <p:nvPr/>
        </p:nvPicPr>
        <p:blipFill>
          <a:blip r:embed="rId7"/>
          <a:stretch/>
        </p:blipFill>
        <p:spPr>
          <a:xfrm>
            <a:off x="900000" y="2060640"/>
            <a:ext cx="3800520" cy="2851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marcin.muszyc\Desktop\Avelio\Lazio Cartina prod tipici.jpg"/>
          <p:cNvPicPr/>
          <p:nvPr/>
        </p:nvPicPr>
        <p:blipFill>
          <a:blip r:embed="rId8"/>
          <a:stretch/>
        </p:blipFill>
        <p:spPr>
          <a:xfrm>
            <a:off x="633240" y="4722840"/>
            <a:ext cx="2524320" cy="180972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13"/>
          <p:cNvSpPr/>
          <p:nvPr/>
        </p:nvSpPr>
        <p:spPr>
          <a:xfrm>
            <a:off x="3780000" y="5229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giony: Marche, Lazio i Veneto lub i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17:42Z</dcterms:created>
  <dc:creator>marcin.muszyc</dc:creator>
  <dc:description/>
  <dc:language>en-US</dc:language>
  <cp:lastModifiedBy>marcin.muszyc</cp:lastModifiedBy>
  <dcterms:modified xsi:type="dcterms:W3CDTF">2012-06-06T12:59:01Z</dcterms:modified>
  <cp:revision>71</cp:revision>
  <dc:subject/>
  <dc:title>Prezentacja wyjazd studyjnego do  ………………………….</dc:title>
</cp:coreProperties>
</file>